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81B-6633-4BE7-8E5C-BBAE7F74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BDA-C65D-4C68-BB45-B5ABDB7C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F69-ADBD-4273-869C-FA46E43B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28C-D4A5-4009-AF4F-FCB5C7CB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C2E-18AE-4C70-A192-04700F13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390-B29A-4D85-A23B-DDE834B3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341-D0CF-44AF-9BF9-3C7832D2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A49-5644-4D70-80DD-AC4BB49B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1E6-C415-483B-AE8E-45A510A9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F06-5F2B-4E27-925C-BFBDB38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E39-BEF5-402A-9566-6D6D8D8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BEF-D55F-4957-BC56-E20073C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993D-BC26-46DA-A069-36CB35CE0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physiological mechanisms and mathematical models of infection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manyukha 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M RAN Mosc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st of immune defen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661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st of immune defense include two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st of immune system mainten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health 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st of infection disease itself,  th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Е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of energy cost of immune defen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st of health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mmune cells maintenance and renewing – appro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– 2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(permanent, running c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st of diseases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nflamma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e respon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eneration…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several days of acute disea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ly on number of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at in normal organ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Объект 1"/>
          <p:cNvGraphicFramePr/>
          <p:nvPr/>
        </p:nvGraphicFramePr>
        <p:xfrm>
          <a:off x="4788000" y="3933720"/>
          <a:ext cx="10634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933720"/>
                    <a:ext cx="1063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betwee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1214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785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e system adaptation to increase of antigenic loa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1508040" y="1692360"/>
            <a:ext cx="7384680" cy="4952520"/>
            <a:chOff x="1508040" y="1692360"/>
            <a:chExt cx="7384680" cy="4952520"/>
          </a:xfrm>
        </p:grpSpPr>
        <p:sp>
          <p:nvSpPr>
            <p:cNvPr id="179" name="Text Box 7"/>
            <p:cNvSpPr/>
            <p:nvPr/>
          </p:nvSpPr>
          <p:spPr>
            <a:xfrm>
              <a:off x="3526920" y="2978640"/>
              <a:ext cx="684360" cy="392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3291120" y="3255840"/>
              <a:ext cx="696600" cy="20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4320000" y="3949920"/>
              <a:ext cx="766440" cy="37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4457160" y="4240080"/>
              <a:ext cx="1096200" cy="397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1" i="1" lang="ru-RU" sz="1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2742480" y="5222520"/>
              <a:ext cx="1091520" cy="400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1" i="1" lang="ru-RU" sz="1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4252680" y="5105880"/>
              <a:ext cx="1091520" cy="372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2331000" y="1692360"/>
              <a:ext cx="1080" cy="441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2331000" y="6090120"/>
              <a:ext cx="6561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2742480" y="1850400"/>
              <a:ext cx="5173200" cy="4051800"/>
            </a:xfrm>
            <a:custGeom>
              <a:avLst/>
              <a:gdLst/>
              <a:ahLst/>
              <a:rect l="l" t="t" r="r" b="b"/>
              <a:pathLst>
                <a:path w="3685" h="3714">
                  <a:moveTo>
                    <a:pt x="9" y="0"/>
                  </a:moveTo>
                  <a:cubicBezTo>
                    <a:pt x="4" y="157"/>
                    <a:pt x="0" y="314"/>
                    <a:pt x="9" y="570"/>
                  </a:cubicBezTo>
                  <a:cubicBezTo>
                    <a:pt x="18" y="826"/>
                    <a:pt x="37" y="1235"/>
                    <a:pt x="66" y="1539"/>
                  </a:cubicBezTo>
                  <a:cubicBezTo>
                    <a:pt x="95" y="1843"/>
                    <a:pt x="133" y="2128"/>
                    <a:pt x="180" y="2394"/>
                  </a:cubicBezTo>
                  <a:cubicBezTo>
                    <a:pt x="227" y="2660"/>
                    <a:pt x="256" y="2954"/>
                    <a:pt x="351" y="3135"/>
                  </a:cubicBezTo>
                  <a:cubicBezTo>
                    <a:pt x="446" y="3316"/>
                    <a:pt x="532" y="3392"/>
                    <a:pt x="750" y="3477"/>
                  </a:cubicBezTo>
                  <a:cubicBezTo>
                    <a:pt x="968" y="3562"/>
                    <a:pt x="1320" y="3610"/>
                    <a:pt x="1662" y="3648"/>
                  </a:cubicBezTo>
                  <a:cubicBezTo>
                    <a:pt x="2004" y="3686"/>
                    <a:pt x="2489" y="3696"/>
                    <a:pt x="2802" y="3705"/>
                  </a:cubicBezTo>
                  <a:cubicBezTo>
                    <a:pt x="3115" y="3714"/>
                    <a:pt x="3401" y="3705"/>
                    <a:pt x="3543" y="3705"/>
                  </a:cubicBezTo>
                  <a:cubicBezTo>
                    <a:pt x="3685" y="3705"/>
                    <a:pt x="3671" y="3705"/>
                    <a:pt x="3657" y="370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182840" y="1893240"/>
              <a:ext cx="3441600" cy="3108960"/>
            </a:xfrm>
            <a:custGeom>
              <a:avLst/>
              <a:gdLst/>
              <a:ahLst/>
              <a:rect l="l" t="t" r="r" b="b"/>
              <a:pathLst>
                <a:path w="3685" h="3714">
                  <a:moveTo>
                    <a:pt x="9" y="0"/>
                  </a:moveTo>
                  <a:cubicBezTo>
                    <a:pt x="4" y="157"/>
                    <a:pt x="0" y="314"/>
                    <a:pt x="9" y="570"/>
                  </a:cubicBezTo>
                  <a:cubicBezTo>
                    <a:pt x="18" y="826"/>
                    <a:pt x="37" y="1235"/>
                    <a:pt x="66" y="1539"/>
                  </a:cubicBezTo>
                  <a:cubicBezTo>
                    <a:pt x="95" y="1843"/>
                    <a:pt x="133" y="2128"/>
                    <a:pt x="180" y="2394"/>
                  </a:cubicBezTo>
                  <a:cubicBezTo>
                    <a:pt x="227" y="2660"/>
                    <a:pt x="256" y="2954"/>
                    <a:pt x="351" y="3135"/>
                  </a:cubicBezTo>
                  <a:cubicBezTo>
                    <a:pt x="446" y="3316"/>
                    <a:pt x="532" y="3392"/>
                    <a:pt x="750" y="3477"/>
                  </a:cubicBezTo>
                  <a:cubicBezTo>
                    <a:pt x="968" y="3562"/>
                    <a:pt x="1320" y="3610"/>
                    <a:pt x="1662" y="3648"/>
                  </a:cubicBezTo>
                  <a:cubicBezTo>
                    <a:pt x="2004" y="3686"/>
                    <a:pt x="2489" y="3696"/>
                    <a:pt x="2802" y="3705"/>
                  </a:cubicBezTo>
                  <a:cubicBezTo>
                    <a:pt x="3115" y="3714"/>
                    <a:pt x="3401" y="3705"/>
                    <a:pt x="3543" y="3705"/>
                  </a:cubicBezTo>
                  <a:cubicBezTo>
                    <a:pt x="3685" y="3705"/>
                    <a:pt x="3671" y="3705"/>
                    <a:pt x="3657" y="370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3912120" y="3487320"/>
              <a:ext cx="545040" cy="8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 flipH="1">
              <a:off x="4182840" y="4412880"/>
              <a:ext cx="274320" cy="973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3428640" y="5280480"/>
              <a:ext cx="822960" cy="173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2810880" y="1791720"/>
              <a:ext cx="640080" cy="497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4320000" y="1791720"/>
              <a:ext cx="480240" cy="49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7406640" y="6148080"/>
              <a:ext cx="800280" cy="496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1508040" y="1850400"/>
              <a:ext cx="799920" cy="496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st of immune defense change with 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34"/>
          <p:cNvGrpSpPr/>
          <p:nvPr/>
        </p:nvGrpSpPr>
        <p:grpSpPr>
          <a:xfrm>
            <a:off x="1079640" y="1714320"/>
            <a:ext cx="5695920" cy="5150160"/>
            <a:chOff x="1079640" y="1714320"/>
            <a:chExt cx="5695920" cy="5150160"/>
          </a:xfrm>
        </p:grpSpPr>
        <p:sp>
          <p:nvSpPr>
            <p:cNvPr id="198" name="AutoShape 35"/>
            <p:cNvSpPr/>
            <p:nvPr/>
          </p:nvSpPr>
          <p:spPr>
            <a:xfrm>
              <a:off x="1079640" y="1714680"/>
              <a:ext cx="5695920" cy="51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36"/>
            <p:cNvSpPr/>
            <p:nvPr/>
          </p:nvSpPr>
          <p:spPr>
            <a:xfrm>
              <a:off x="2008440" y="1928520"/>
              <a:ext cx="4469400" cy="44467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AutoShape 37"/>
            <p:cNvSpPr/>
            <p:nvPr/>
          </p:nvSpPr>
          <p:spPr>
            <a:xfrm flipH="1" flipV="1">
              <a:off x="3427560" y="1930680"/>
              <a:ext cx="3050280" cy="3035520"/>
            </a:xfrm>
            <a:prstGeom prst="rtTriangl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38"/>
            <p:cNvSpPr/>
            <p:nvPr/>
          </p:nvSpPr>
          <p:spPr>
            <a:xfrm>
              <a:off x="2012760" y="3355200"/>
              <a:ext cx="3034080" cy="3020760"/>
            </a:xfrm>
            <a:prstGeom prst="rtTriangl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9"/>
            <p:cNvSpPr/>
            <p:nvPr/>
          </p:nvSpPr>
          <p:spPr>
            <a:xfrm>
              <a:off x="2059560" y="4641120"/>
              <a:ext cx="666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weak I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2291760" y="5632200"/>
              <a:ext cx="73080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normal I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41"/>
            <p:cNvSpPr/>
            <p:nvPr/>
          </p:nvSpPr>
          <p:spPr>
            <a:xfrm>
              <a:off x="3609000" y="6024600"/>
              <a:ext cx="6804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strong I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42"/>
            <p:cNvSpPr/>
            <p:nvPr/>
          </p:nvSpPr>
          <p:spPr>
            <a:xfrm>
              <a:off x="2516760" y="1930680"/>
              <a:ext cx="3961080" cy="4178160"/>
            </a:xfrm>
            <a:custGeom>
              <a:avLst/>
              <a:gdLst/>
              <a:ahLst/>
              <a:rect l="l" t="t" r="r" b="b"/>
              <a:pathLst>
                <a:path w="5369" h="4864">
                  <a:moveTo>
                    <a:pt x="1" y="0"/>
                  </a:moveTo>
                  <a:cubicBezTo>
                    <a:pt x="2" y="155"/>
                    <a:pt x="0" y="580"/>
                    <a:pt x="8" y="937"/>
                  </a:cubicBezTo>
                  <a:cubicBezTo>
                    <a:pt x="16" y="1294"/>
                    <a:pt x="17" y="1760"/>
                    <a:pt x="48" y="2142"/>
                  </a:cubicBezTo>
                  <a:cubicBezTo>
                    <a:pt x="79" y="2523"/>
                    <a:pt x="121" y="2899"/>
                    <a:pt x="194" y="3230"/>
                  </a:cubicBezTo>
                  <a:cubicBezTo>
                    <a:pt x="267" y="3562"/>
                    <a:pt x="346" y="3914"/>
                    <a:pt x="488" y="4136"/>
                  </a:cubicBezTo>
                  <a:cubicBezTo>
                    <a:pt x="630" y="4358"/>
                    <a:pt x="742" y="4456"/>
                    <a:pt x="1048" y="4562"/>
                  </a:cubicBezTo>
                  <a:cubicBezTo>
                    <a:pt x="1354" y="4668"/>
                    <a:pt x="1849" y="4728"/>
                    <a:pt x="2329" y="4775"/>
                  </a:cubicBezTo>
                  <a:cubicBezTo>
                    <a:pt x="2810" y="4823"/>
                    <a:pt x="3491" y="4833"/>
                    <a:pt x="3930" y="4847"/>
                  </a:cubicBezTo>
                  <a:cubicBezTo>
                    <a:pt x="4370" y="4860"/>
                    <a:pt x="4728" y="4859"/>
                    <a:pt x="4967" y="4862"/>
                  </a:cubicBezTo>
                  <a:cubicBezTo>
                    <a:pt x="5207" y="4864"/>
                    <a:pt x="5286" y="4862"/>
                    <a:pt x="5369" y="486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43"/>
            <p:cNvSpPr/>
            <p:nvPr/>
          </p:nvSpPr>
          <p:spPr>
            <a:xfrm>
              <a:off x="3133080" y="5777640"/>
              <a:ext cx="662040" cy="198360"/>
            </a:xfrm>
            <a:custGeom>
              <a:avLst/>
              <a:gdLst/>
              <a:ahLst/>
              <a:rect l="l" t="t" r="r" b="b"/>
              <a:pathLst>
                <a:path w="1050" h="227">
                  <a:moveTo>
                    <a:pt x="1050" y="227"/>
                  </a:moveTo>
                  <a:cubicBezTo>
                    <a:pt x="958" y="213"/>
                    <a:pt x="637" y="170"/>
                    <a:pt x="499" y="144"/>
                  </a:cubicBezTo>
                  <a:cubicBezTo>
                    <a:pt x="361" y="118"/>
                    <a:pt x="305" y="96"/>
                    <a:pt x="222" y="72"/>
                  </a:cubicBezTo>
                  <a:cubicBezTo>
                    <a:pt x="139" y="48"/>
                    <a:pt x="46" y="15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44"/>
            <p:cNvSpPr/>
            <p:nvPr/>
          </p:nvSpPr>
          <p:spPr>
            <a:xfrm>
              <a:off x="2697840" y="4913640"/>
              <a:ext cx="228960" cy="665280"/>
            </a:xfrm>
            <a:custGeom>
              <a:avLst/>
              <a:gdLst/>
              <a:ahLst/>
              <a:rect l="l" t="t" r="r" b="b"/>
              <a:pathLst>
                <a:path w="341" h="1032">
                  <a:moveTo>
                    <a:pt x="341" y="1032"/>
                  </a:moveTo>
                  <a:cubicBezTo>
                    <a:pt x="318" y="982"/>
                    <a:pt x="239" y="826"/>
                    <a:pt x="201" y="733"/>
                  </a:cubicBezTo>
                  <a:cubicBezTo>
                    <a:pt x="163" y="640"/>
                    <a:pt x="146" y="595"/>
                    <a:pt x="113" y="473"/>
                  </a:cubicBezTo>
                  <a:cubicBezTo>
                    <a:pt x="80" y="351"/>
                    <a:pt x="24" y="99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45"/>
            <p:cNvSpPr/>
            <p:nvPr/>
          </p:nvSpPr>
          <p:spPr>
            <a:xfrm>
              <a:off x="1079640" y="2189880"/>
              <a:ext cx="1038240" cy="8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1200" spc="-1" strike="noStrike" baseline="-2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46"/>
            <p:cNvSpPr/>
            <p:nvPr/>
          </p:nvSpPr>
          <p:spPr>
            <a:xfrm flipV="1">
              <a:off x="2008440" y="1714320"/>
              <a:ext cx="1080" cy="46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47"/>
            <p:cNvSpPr/>
            <p:nvPr/>
          </p:nvSpPr>
          <p:spPr>
            <a:xfrm>
              <a:off x="2632320" y="4771800"/>
              <a:ext cx="92520" cy="9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48"/>
            <p:cNvSpPr/>
            <p:nvPr/>
          </p:nvSpPr>
          <p:spPr>
            <a:xfrm>
              <a:off x="2961000" y="5637960"/>
              <a:ext cx="92520" cy="9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9"/>
            <p:cNvSpPr/>
            <p:nvPr/>
          </p:nvSpPr>
          <p:spPr>
            <a:xfrm>
              <a:off x="3907440" y="5950800"/>
              <a:ext cx="92520" cy="9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50"/>
            <p:cNvSpPr/>
            <p:nvPr/>
          </p:nvSpPr>
          <p:spPr>
            <a:xfrm>
              <a:off x="4407480" y="2905920"/>
              <a:ext cx="2064960" cy="2662560"/>
            </a:xfrm>
            <a:custGeom>
              <a:avLst/>
              <a:gdLst/>
              <a:ahLst/>
              <a:rect l="l" t="t" r="r" b="b"/>
              <a:pathLst>
                <a:path w="1901" h="4340">
                  <a:moveTo>
                    <a:pt x="4" y="0"/>
                  </a:moveTo>
                  <a:cubicBezTo>
                    <a:pt x="5" y="140"/>
                    <a:pt x="0" y="527"/>
                    <a:pt x="3" y="842"/>
                  </a:cubicBezTo>
                  <a:cubicBezTo>
                    <a:pt x="6" y="1157"/>
                    <a:pt x="10" y="1558"/>
                    <a:pt x="21" y="1886"/>
                  </a:cubicBezTo>
                  <a:cubicBezTo>
                    <a:pt x="33" y="2213"/>
                    <a:pt x="48" y="2516"/>
                    <a:pt x="72" y="2805"/>
                  </a:cubicBezTo>
                  <a:cubicBezTo>
                    <a:pt x="97" y="3095"/>
                    <a:pt x="121" y="3428"/>
                    <a:pt x="169" y="3626"/>
                  </a:cubicBezTo>
                  <a:cubicBezTo>
                    <a:pt x="218" y="3824"/>
                    <a:pt x="257" y="3903"/>
                    <a:pt x="363" y="3997"/>
                  </a:cubicBezTo>
                  <a:cubicBezTo>
                    <a:pt x="469" y="4091"/>
                    <a:pt x="662" y="4143"/>
                    <a:pt x="806" y="4190"/>
                  </a:cubicBezTo>
                  <a:cubicBezTo>
                    <a:pt x="950" y="4237"/>
                    <a:pt x="1091" y="4258"/>
                    <a:pt x="1226" y="4280"/>
                  </a:cubicBezTo>
                  <a:cubicBezTo>
                    <a:pt x="1361" y="4302"/>
                    <a:pt x="1504" y="4315"/>
                    <a:pt x="1616" y="4325"/>
                  </a:cubicBezTo>
                  <a:cubicBezTo>
                    <a:pt x="1728" y="4335"/>
                    <a:pt x="1842" y="4337"/>
                    <a:pt x="1901" y="43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51"/>
            <p:cNvSpPr/>
            <p:nvPr/>
          </p:nvSpPr>
          <p:spPr>
            <a:xfrm>
              <a:off x="4749480" y="6420240"/>
              <a:ext cx="1730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alibri"/>
                </a:rPr>
                <a:t>                               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1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 Box 52"/>
            <p:cNvSpPr/>
            <p:nvPr/>
          </p:nvSpPr>
          <p:spPr>
            <a:xfrm>
              <a:off x="5407200" y="2642760"/>
              <a:ext cx="59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alibri"/>
                </a:rPr>
                <a:t>Death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53"/>
            <p:cNvSpPr/>
            <p:nvPr/>
          </p:nvSpPr>
          <p:spPr>
            <a:xfrm>
              <a:off x="4613760" y="5199120"/>
              <a:ext cx="93240" cy="9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54"/>
            <p:cNvSpPr/>
            <p:nvPr/>
          </p:nvSpPr>
          <p:spPr>
            <a:xfrm>
              <a:off x="3066120" y="5259960"/>
              <a:ext cx="1551240" cy="397440"/>
            </a:xfrm>
            <a:custGeom>
              <a:avLst/>
              <a:gdLst/>
              <a:ahLst/>
              <a:rect l="l" t="t" r="r" b="b"/>
              <a:pathLst>
                <a:path w="2392" h="613">
                  <a:moveTo>
                    <a:pt x="0" y="613"/>
                  </a:moveTo>
                  <a:cubicBezTo>
                    <a:pt x="128" y="604"/>
                    <a:pt x="533" y="591"/>
                    <a:pt x="766" y="561"/>
                  </a:cubicBezTo>
                  <a:cubicBezTo>
                    <a:pt x="999" y="531"/>
                    <a:pt x="1199" y="484"/>
                    <a:pt x="1396" y="431"/>
                  </a:cubicBezTo>
                  <a:cubicBezTo>
                    <a:pt x="1593" y="378"/>
                    <a:pt x="1780" y="313"/>
                    <a:pt x="1946" y="241"/>
                  </a:cubicBezTo>
                  <a:cubicBezTo>
                    <a:pt x="2112" y="169"/>
                    <a:pt x="2299" y="50"/>
                    <a:pt x="2392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55"/>
            <p:cNvSpPr/>
            <p:nvPr/>
          </p:nvSpPr>
          <p:spPr>
            <a:xfrm>
              <a:off x="2818440" y="1926000"/>
              <a:ext cx="2133720" cy="1517400"/>
            </a:xfrm>
            <a:custGeom>
              <a:avLst/>
              <a:gdLst/>
              <a:ahLst/>
              <a:rect l="l" t="t" r="r" b="b"/>
              <a:pathLst>
                <a:path w="4576" h="1981">
                  <a:moveTo>
                    <a:pt x="4576" y="1981"/>
                  </a:moveTo>
                  <a:cubicBezTo>
                    <a:pt x="4425" y="1979"/>
                    <a:pt x="4001" y="1975"/>
                    <a:pt x="3667" y="1970"/>
                  </a:cubicBezTo>
                  <a:cubicBezTo>
                    <a:pt x="3333" y="1965"/>
                    <a:pt x="2916" y="1963"/>
                    <a:pt x="2573" y="1951"/>
                  </a:cubicBezTo>
                  <a:cubicBezTo>
                    <a:pt x="2230" y="1939"/>
                    <a:pt x="1912" y="1923"/>
                    <a:pt x="1610" y="1898"/>
                  </a:cubicBezTo>
                  <a:cubicBezTo>
                    <a:pt x="1306" y="1872"/>
                    <a:pt x="957" y="1847"/>
                    <a:pt x="749" y="1798"/>
                  </a:cubicBezTo>
                  <a:cubicBezTo>
                    <a:pt x="542" y="1747"/>
                    <a:pt x="459" y="1706"/>
                    <a:pt x="360" y="1596"/>
                  </a:cubicBezTo>
                  <a:cubicBezTo>
                    <a:pt x="262" y="1486"/>
                    <a:pt x="207" y="1286"/>
                    <a:pt x="158" y="1136"/>
                  </a:cubicBezTo>
                  <a:cubicBezTo>
                    <a:pt x="109" y="987"/>
                    <a:pt x="87" y="841"/>
                    <a:pt x="64" y="701"/>
                  </a:cubicBezTo>
                  <a:cubicBezTo>
                    <a:pt x="41" y="560"/>
                    <a:pt x="27" y="412"/>
                    <a:pt x="17" y="296"/>
                  </a:cubicBezTo>
                  <a:cubicBezTo>
                    <a:pt x="6" y="180"/>
                    <a:pt x="3" y="61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56"/>
            <p:cNvSpPr/>
            <p:nvPr/>
          </p:nvSpPr>
          <p:spPr>
            <a:xfrm>
              <a:off x="3016080" y="3199680"/>
              <a:ext cx="92520" cy="9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57"/>
            <p:cNvSpPr/>
            <p:nvPr/>
          </p:nvSpPr>
          <p:spPr>
            <a:xfrm>
              <a:off x="2013480" y="6079680"/>
              <a:ext cx="15408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alibri"/>
                </a:rPr>
                <a:t>Reproductive perio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58"/>
            <p:cNvSpPr/>
            <p:nvPr/>
          </p:nvSpPr>
          <p:spPr>
            <a:xfrm>
              <a:off x="2998080" y="5339160"/>
              <a:ext cx="63936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Adul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59"/>
            <p:cNvSpPr/>
            <p:nvPr/>
          </p:nvSpPr>
          <p:spPr>
            <a:xfrm>
              <a:off x="4670280" y="5103000"/>
              <a:ext cx="57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 Box 60"/>
            <p:cNvSpPr/>
            <p:nvPr/>
          </p:nvSpPr>
          <p:spPr>
            <a:xfrm>
              <a:off x="3054600" y="3014280"/>
              <a:ext cx="62964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Calibri"/>
                </a:rPr>
                <a:t>Seni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 Box 61"/>
            <p:cNvSpPr/>
            <p:nvPr/>
          </p:nvSpPr>
          <p:spPr>
            <a:xfrm>
              <a:off x="4609800" y="5677200"/>
              <a:ext cx="1774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alibri"/>
                </a:rPr>
                <a:t>Non-reproductive perio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62"/>
            <p:cNvSpPr/>
            <p:nvPr/>
          </p:nvSpPr>
          <p:spPr>
            <a:xfrm>
              <a:off x="2858760" y="3301920"/>
              <a:ext cx="176040" cy="2395440"/>
            </a:xfrm>
            <a:custGeom>
              <a:avLst/>
              <a:gdLst/>
              <a:ahLst/>
              <a:rect l="l" t="t" r="r" b="b"/>
              <a:pathLst>
                <a:path w="272" h="3694">
                  <a:moveTo>
                    <a:pt x="265" y="0"/>
                  </a:moveTo>
                  <a:cubicBezTo>
                    <a:pt x="238" y="100"/>
                    <a:pt x="156" y="381"/>
                    <a:pt x="115" y="599"/>
                  </a:cubicBezTo>
                  <a:cubicBezTo>
                    <a:pt x="74" y="817"/>
                    <a:pt x="32" y="1075"/>
                    <a:pt x="16" y="1310"/>
                  </a:cubicBezTo>
                  <a:cubicBezTo>
                    <a:pt x="0" y="1545"/>
                    <a:pt x="3" y="1772"/>
                    <a:pt x="16" y="2010"/>
                  </a:cubicBezTo>
                  <a:cubicBezTo>
                    <a:pt x="29" y="2248"/>
                    <a:pt x="53" y="2459"/>
                    <a:pt x="96" y="2740"/>
                  </a:cubicBezTo>
                  <a:cubicBezTo>
                    <a:pt x="139" y="3021"/>
                    <a:pt x="235" y="3495"/>
                    <a:pt x="272" y="369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 property of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sign of model permit estimate of defense effectivity (target organ damage, inflammation, homeostasis disturbance….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llow to describe immune system adaptation and possible cause of immune sup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бл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anyukha, A.A.,  S.G. Rudnev, I.A. Sidorov. 2006. Energy cost of infection burden: An approach to understanding the dynamics of host–pathogen interactions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Theor. Bi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241,  p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1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юха, А.А., Руднев. С.Г. 2001 О применении одного вариационного принципа в задачах исследования противоинфекционного иммунитета на примере математической модели пневмонии. Математическое модел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13, №8, с.65-8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uk, G. I., &amp; Romanyukha, A. A. (2010). Mathematical modelling and    the homeostatic function of the immune system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 Journal of Numerical Analysis and Mathematical Model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563-58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юха АА Иммунная система, норма и адаптация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лог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09 №1 стр.7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 it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xes of disease’s dangerous and maintenance of internal environment  homeosta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of infection diseases and physiological adap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oratory index (viral hepatitis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bilirubin 1 concentration  (sign of liver damag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bilirubin 2 concentration  (sign of liver damag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bilirub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the enzyme concentration in blood (sign of liver cell destru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centration in blood the species  produced in liver under stress (sign of liver disfun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Объект 10"/>
          <p:cNvGraphicFramePr/>
          <p:nvPr/>
        </p:nvGraphicFramePr>
        <p:xfrm>
          <a:off x="324000" y="4149720"/>
          <a:ext cx="84056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149720"/>
                    <a:ext cx="84056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atory index dynamics during viral hepatitis natural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Объект 5"/>
          <p:cNvGraphicFramePr/>
          <p:nvPr/>
        </p:nvGraphicFramePr>
        <p:xfrm>
          <a:off x="1617840" y="1612800"/>
          <a:ext cx="29520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7840" y="1612800"/>
                    <a:ext cx="295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1"/>
          <p:cNvGrpSpPr/>
          <p:nvPr/>
        </p:nvGrpSpPr>
        <p:grpSpPr>
          <a:xfrm>
            <a:off x="1042920" y="1486080"/>
            <a:ext cx="7153200" cy="5037120"/>
            <a:chOff x="1042920" y="1486080"/>
            <a:chExt cx="7153200" cy="5037120"/>
          </a:xfrm>
        </p:grpSpPr>
        <p:sp>
          <p:nvSpPr>
            <p:cNvPr id="53" name="AutoShape 24"/>
            <p:cNvSpPr/>
            <p:nvPr/>
          </p:nvSpPr>
          <p:spPr>
            <a:xfrm>
              <a:off x="1042920" y="1486080"/>
              <a:ext cx="7153200" cy="5037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23"/>
            <p:cNvSpPr/>
            <p:nvPr/>
          </p:nvSpPr>
          <p:spPr>
            <a:xfrm flipV="1">
              <a:off x="2251440" y="1686600"/>
              <a:ext cx="1080" cy="344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22"/>
            <p:cNvSpPr/>
            <p:nvPr/>
          </p:nvSpPr>
          <p:spPr>
            <a:xfrm>
              <a:off x="2251440" y="5112000"/>
              <a:ext cx="54403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21"/>
            <p:cNvSpPr/>
            <p:nvPr/>
          </p:nvSpPr>
          <p:spPr>
            <a:xfrm>
              <a:off x="7088040" y="5113080"/>
              <a:ext cx="95652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t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day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>
              <a:off x="1647720" y="1486080"/>
              <a:ext cx="40212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>
              <a:off x="1848240" y="3903840"/>
              <a:ext cx="40428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17"/>
            <p:cNvSpPr/>
            <p:nvPr/>
          </p:nvSpPr>
          <p:spPr>
            <a:xfrm>
              <a:off x="1848240" y="2895840"/>
              <a:ext cx="40428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1848240" y="1888920"/>
              <a:ext cx="4021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3151800" y="5113080"/>
              <a:ext cx="2948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4065480" y="5113080"/>
              <a:ext cx="60444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3"/>
            <p:cNvSpPr/>
            <p:nvPr/>
          </p:nvSpPr>
          <p:spPr>
            <a:xfrm>
              <a:off x="5072760" y="5113080"/>
              <a:ext cx="6058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6080760" y="5113080"/>
              <a:ext cx="60372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>
              <a:off x="2251440" y="3702240"/>
              <a:ext cx="151128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>
              <a:off x="4468680" y="3803400"/>
              <a:ext cx="1812600" cy="110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9"/>
            <p:cNvSpPr/>
            <p:nvPr/>
          </p:nvSpPr>
          <p:spPr>
            <a:xfrm>
              <a:off x="6281280" y="4911120"/>
              <a:ext cx="120960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8"/>
            <p:cNvSpPr/>
            <p:nvPr/>
          </p:nvSpPr>
          <p:spPr>
            <a:xfrm>
              <a:off x="2251440" y="2694960"/>
              <a:ext cx="2015280" cy="14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4267080" y="4105080"/>
              <a:ext cx="2014200" cy="60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6281280" y="4710240"/>
              <a:ext cx="1209600" cy="3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2251440" y="2292120"/>
              <a:ext cx="201528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4"/>
            <p:cNvSpPr/>
            <p:nvPr/>
          </p:nvSpPr>
          <p:spPr>
            <a:xfrm>
              <a:off x="4267080" y="3803400"/>
              <a:ext cx="2014200" cy="70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3"/>
            <p:cNvSpPr/>
            <p:nvPr/>
          </p:nvSpPr>
          <p:spPr>
            <a:xfrm>
              <a:off x="6281280" y="4507920"/>
              <a:ext cx="1209600" cy="40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"/>
            <p:cNvSpPr/>
            <p:nvPr/>
          </p:nvSpPr>
          <p:spPr>
            <a:xfrm flipV="1">
              <a:off x="3762720" y="3803400"/>
              <a:ext cx="705600" cy="20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152280" y="15228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ized  laboratory index dynam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viral hepatitis 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Объект 157"/>
          <p:cNvGraphicFramePr/>
          <p:nvPr/>
        </p:nvGraphicFramePr>
        <p:xfrm>
          <a:off x="1084320" y="1531800"/>
          <a:ext cx="29520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Объект 1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1531800"/>
                    <a:ext cx="295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Group 169"/>
          <p:cNvGrpSpPr/>
          <p:nvPr/>
        </p:nvGrpSpPr>
        <p:grpSpPr>
          <a:xfrm>
            <a:off x="1087560" y="1414440"/>
            <a:ext cx="6856200" cy="4419720"/>
            <a:chOff x="1087560" y="1414440"/>
            <a:chExt cx="6856200" cy="4419720"/>
          </a:xfrm>
        </p:grpSpPr>
        <p:sp>
          <p:nvSpPr>
            <p:cNvPr id="81" name="AutoShape 240"/>
            <p:cNvSpPr/>
            <p:nvPr/>
          </p:nvSpPr>
          <p:spPr>
            <a:xfrm>
              <a:off x="1087560" y="1414440"/>
              <a:ext cx="6856200" cy="441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239"/>
            <p:cNvSpPr/>
            <p:nvPr/>
          </p:nvSpPr>
          <p:spPr>
            <a:xfrm flipV="1">
              <a:off x="1590120" y="1673640"/>
              <a:ext cx="1080" cy="357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238"/>
            <p:cNvSpPr/>
            <p:nvPr/>
          </p:nvSpPr>
          <p:spPr>
            <a:xfrm>
              <a:off x="1590120" y="5227560"/>
              <a:ext cx="56426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237"/>
            <p:cNvSpPr/>
            <p:nvPr/>
          </p:nvSpPr>
          <p:spPr>
            <a:xfrm>
              <a:off x="6606360" y="5228280"/>
              <a:ext cx="9921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t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day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235"/>
            <p:cNvSpPr/>
            <p:nvPr/>
          </p:nvSpPr>
          <p:spPr>
            <a:xfrm>
              <a:off x="1094760" y="1451880"/>
              <a:ext cx="4168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234"/>
            <p:cNvSpPr/>
            <p:nvPr/>
          </p:nvSpPr>
          <p:spPr>
            <a:xfrm>
              <a:off x="1171800" y="1883520"/>
              <a:ext cx="4168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233"/>
            <p:cNvSpPr/>
            <p:nvPr/>
          </p:nvSpPr>
          <p:spPr>
            <a:xfrm>
              <a:off x="2523960" y="5228280"/>
              <a:ext cx="306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232"/>
            <p:cNvSpPr/>
            <p:nvPr/>
          </p:nvSpPr>
          <p:spPr>
            <a:xfrm>
              <a:off x="3471480" y="5228280"/>
              <a:ext cx="627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231"/>
            <p:cNvSpPr/>
            <p:nvPr/>
          </p:nvSpPr>
          <p:spPr>
            <a:xfrm>
              <a:off x="4516200" y="5228280"/>
              <a:ext cx="62820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230"/>
            <p:cNvSpPr/>
            <p:nvPr/>
          </p:nvSpPr>
          <p:spPr>
            <a:xfrm>
              <a:off x="5561640" y="5228280"/>
              <a:ext cx="626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29"/>
            <p:cNvSpPr/>
            <p:nvPr/>
          </p:nvSpPr>
          <p:spPr>
            <a:xfrm>
              <a:off x="1590120" y="2092320"/>
              <a:ext cx="2090520" cy="18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228"/>
            <p:cNvSpPr/>
            <p:nvPr/>
          </p:nvSpPr>
          <p:spPr>
            <a:xfrm>
              <a:off x="3680640" y="3974040"/>
              <a:ext cx="208908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27"/>
            <p:cNvSpPr/>
            <p:nvPr/>
          </p:nvSpPr>
          <p:spPr>
            <a:xfrm>
              <a:off x="5769720" y="4392000"/>
              <a:ext cx="1254960" cy="8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226"/>
            <p:cNvSpPr/>
            <p:nvPr/>
          </p:nvSpPr>
          <p:spPr>
            <a:xfrm>
              <a:off x="1590120" y="2092320"/>
              <a:ext cx="2090520" cy="20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225"/>
            <p:cNvSpPr/>
            <p:nvPr/>
          </p:nvSpPr>
          <p:spPr>
            <a:xfrm>
              <a:off x="3680640" y="4182480"/>
              <a:ext cx="2089080" cy="62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224"/>
            <p:cNvSpPr/>
            <p:nvPr/>
          </p:nvSpPr>
          <p:spPr>
            <a:xfrm>
              <a:off x="5769720" y="4810320"/>
              <a:ext cx="125496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223"/>
            <p:cNvSpPr/>
            <p:nvPr/>
          </p:nvSpPr>
          <p:spPr>
            <a:xfrm>
              <a:off x="1590120" y="2092320"/>
              <a:ext cx="2090520" cy="17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222"/>
            <p:cNvSpPr/>
            <p:nvPr/>
          </p:nvSpPr>
          <p:spPr>
            <a:xfrm>
              <a:off x="3680640" y="3869640"/>
              <a:ext cx="208908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221"/>
            <p:cNvSpPr/>
            <p:nvPr/>
          </p:nvSpPr>
          <p:spPr>
            <a:xfrm>
              <a:off x="5769720" y="4600440"/>
              <a:ext cx="125496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220"/>
            <p:cNvSpPr/>
            <p:nvPr/>
          </p:nvSpPr>
          <p:spPr>
            <a:xfrm>
              <a:off x="1590120" y="2092320"/>
              <a:ext cx="1985760" cy="23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219"/>
            <p:cNvSpPr/>
            <p:nvPr/>
          </p:nvSpPr>
          <p:spPr>
            <a:xfrm>
              <a:off x="5457240" y="4078440"/>
              <a:ext cx="2089080" cy="62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218"/>
            <p:cNvSpPr/>
            <p:nvPr/>
          </p:nvSpPr>
          <p:spPr>
            <a:xfrm>
              <a:off x="3575880" y="3033720"/>
              <a:ext cx="1881000" cy="10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217"/>
            <p:cNvSpPr/>
            <p:nvPr/>
          </p:nvSpPr>
          <p:spPr>
            <a:xfrm>
              <a:off x="1590120" y="2092320"/>
              <a:ext cx="198576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216"/>
            <p:cNvSpPr/>
            <p:nvPr/>
          </p:nvSpPr>
          <p:spPr>
            <a:xfrm>
              <a:off x="3575880" y="4424400"/>
              <a:ext cx="2089080" cy="62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215"/>
            <p:cNvSpPr/>
            <p:nvPr/>
          </p:nvSpPr>
          <p:spPr>
            <a:xfrm>
              <a:off x="1590120" y="2125440"/>
              <a:ext cx="1776600" cy="10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214"/>
            <p:cNvSpPr/>
            <p:nvPr/>
          </p:nvSpPr>
          <p:spPr>
            <a:xfrm>
              <a:off x="3366720" y="3274200"/>
              <a:ext cx="1463040" cy="13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13"/>
            <p:cNvSpPr/>
            <p:nvPr/>
          </p:nvSpPr>
          <p:spPr>
            <a:xfrm>
              <a:off x="4829760" y="4598640"/>
              <a:ext cx="250740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12"/>
            <p:cNvSpPr/>
            <p:nvPr/>
          </p:nvSpPr>
          <p:spPr>
            <a:xfrm>
              <a:off x="1590120" y="2092320"/>
              <a:ext cx="627480" cy="10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11"/>
            <p:cNvSpPr/>
            <p:nvPr/>
          </p:nvSpPr>
          <p:spPr>
            <a:xfrm>
              <a:off x="2217600" y="3170160"/>
              <a:ext cx="187992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210"/>
            <p:cNvSpPr/>
            <p:nvPr/>
          </p:nvSpPr>
          <p:spPr>
            <a:xfrm>
              <a:off x="4097880" y="4424400"/>
              <a:ext cx="2017800" cy="45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209"/>
            <p:cNvSpPr/>
            <p:nvPr/>
          </p:nvSpPr>
          <p:spPr>
            <a:xfrm>
              <a:off x="1590120" y="2125440"/>
              <a:ext cx="836280" cy="13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208"/>
            <p:cNvSpPr/>
            <p:nvPr/>
          </p:nvSpPr>
          <p:spPr>
            <a:xfrm>
              <a:off x="2426400" y="3484080"/>
              <a:ext cx="1567440" cy="14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207"/>
            <p:cNvSpPr/>
            <p:nvPr/>
          </p:nvSpPr>
          <p:spPr>
            <a:xfrm>
              <a:off x="3994200" y="4946760"/>
              <a:ext cx="184716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206"/>
            <p:cNvSpPr/>
            <p:nvPr/>
          </p:nvSpPr>
          <p:spPr>
            <a:xfrm>
              <a:off x="1590120" y="2125440"/>
              <a:ext cx="250740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205"/>
            <p:cNvSpPr/>
            <p:nvPr/>
          </p:nvSpPr>
          <p:spPr>
            <a:xfrm>
              <a:off x="4097880" y="2856240"/>
              <a:ext cx="1776600" cy="11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204"/>
            <p:cNvSpPr/>
            <p:nvPr/>
          </p:nvSpPr>
          <p:spPr>
            <a:xfrm>
              <a:off x="5874480" y="4006440"/>
              <a:ext cx="125388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203"/>
            <p:cNvSpPr/>
            <p:nvPr/>
          </p:nvSpPr>
          <p:spPr>
            <a:xfrm>
              <a:off x="1590120" y="2125440"/>
              <a:ext cx="1881360" cy="10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202"/>
            <p:cNvSpPr/>
            <p:nvPr/>
          </p:nvSpPr>
          <p:spPr>
            <a:xfrm>
              <a:off x="3471480" y="3170160"/>
              <a:ext cx="2298240" cy="13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201"/>
            <p:cNvSpPr/>
            <p:nvPr/>
          </p:nvSpPr>
          <p:spPr>
            <a:xfrm>
              <a:off x="5769720" y="4528800"/>
              <a:ext cx="627480" cy="62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200"/>
            <p:cNvSpPr/>
            <p:nvPr/>
          </p:nvSpPr>
          <p:spPr>
            <a:xfrm>
              <a:off x="1590120" y="2125440"/>
              <a:ext cx="16718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199"/>
            <p:cNvSpPr/>
            <p:nvPr/>
          </p:nvSpPr>
          <p:spPr>
            <a:xfrm>
              <a:off x="3262320" y="3379680"/>
              <a:ext cx="1044360" cy="15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198"/>
            <p:cNvSpPr/>
            <p:nvPr/>
          </p:nvSpPr>
          <p:spPr>
            <a:xfrm>
              <a:off x="1590120" y="2125440"/>
              <a:ext cx="209052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197"/>
            <p:cNvSpPr/>
            <p:nvPr/>
          </p:nvSpPr>
          <p:spPr>
            <a:xfrm>
              <a:off x="3680640" y="2856240"/>
              <a:ext cx="216072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196"/>
            <p:cNvSpPr/>
            <p:nvPr/>
          </p:nvSpPr>
          <p:spPr>
            <a:xfrm>
              <a:off x="1590120" y="2125440"/>
              <a:ext cx="1358280" cy="17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195"/>
            <p:cNvSpPr/>
            <p:nvPr/>
          </p:nvSpPr>
          <p:spPr>
            <a:xfrm>
              <a:off x="2948400" y="3902040"/>
              <a:ext cx="1985760" cy="10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194"/>
            <p:cNvSpPr/>
            <p:nvPr/>
          </p:nvSpPr>
          <p:spPr>
            <a:xfrm>
              <a:off x="4934160" y="4946760"/>
              <a:ext cx="19857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193"/>
            <p:cNvSpPr/>
            <p:nvPr/>
          </p:nvSpPr>
          <p:spPr>
            <a:xfrm flipV="1">
              <a:off x="3366720" y="2961720"/>
              <a:ext cx="188136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192"/>
            <p:cNvSpPr/>
            <p:nvPr/>
          </p:nvSpPr>
          <p:spPr>
            <a:xfrm>
              <a:off x="5248080" y="2961720"/>
              <a:ext cx="5216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91"/>
            <p:cNvSpPr/>
            <p:nvPr/>
          </p:nvSpPr>
          <p:spPr>
            <a:xfrm>
              <a:off x="5769720" y="3065760"/>
              <a:ext cx="146304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90"/>
            <p:cNvSpPr/>
            <p:nvPr/>
          </p:nvSpPr>
          <p:spPr>
            <a:xfrm>
              <a:off x="1694520" y="2125440"/>
              <a:ext cx="167184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89"/>
            <p:cNvSpPr/>
            <p:nvPr/>
          </p:nvSpPr>
          <p:spPr>
            <a:xfrm>
              <a:off x="1590120" y="2125440"/>
              <a:ext cx="62640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88"/>
            <p:cNvSpPr/>
            <p:nvPr/>
          </p:nvSpPr>
          <p:spPr>
            <a:xfrm>
              <a:off x="3366720" y="3170160"/>
              <a:ext cx="73080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187"/>
            <p:cNvSpPr/>
            <p:nvPr/>
          </p:nvSpPr>
          <p:spPr>
            <a:xfrm>
              <a:off x="4097880" y="4110840"/>
              <a:ext cx="1985760" cy="10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186"/>
            <p:cNvSpPr/>
            <p:nvPr/>
          </p:nvSpPr>
          <p:spPr>
            <a:xfrm>
              <a:off x="1590120" y="2125440"/>
              <a:ext cx="1881360" cy="13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185"/>
            <p:cNvSpPr/>
            <p:nvPr/>
          </p:nvSpPr>
          <p:spPr>
            <a:xfrm>
              <a:off x="3471480" y="3484080"/>
              <a:ext cx="939600" cy="13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>
              <a:off x="4411440" y="4842360"/>
              <a:ext cx="219492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183"/>
            <p:cNvSpPr/>
            <p:nvPr/>
          </p:nvSpPr>
          <p:spPr>
            <a:xfrm>
              <a:off x="1694520" y="2125440"/>
              <a:ext cx="1253880" cy="16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182"/>
            <p:cNvSpPr/>
            <p:nvPr/>
          </p:nvSpPr>
          <p:spPr>
            <a:xfrm>
              <a:off x="2948400" y="3798000"/>
              <a:ext cx="198576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181"/>
            <p:cNvSpPr/>
            <p:nvPr/>
          </p:nvSpPr>
          <p:spPr>
            <a:xfrm>
              <a:off x="4934160" y="4738320"/>
              <a:ext cx="212220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80"/>
            <p:cNvSpPr/>
            <p:nvPr/>
          </p:nvSpPr>
          <p:spPr>
            <a:xfrm>
              <a:off x="1590120" y="2125440"/>
              <a:ext cx="2716560" cy="10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179"/>
            <p:cNvSpPr/>
            <p:nvPr/>
          </p:nvSpPr>
          <p:spPr>
            <a:xfrm>
              <a:off x="4306680" y="3170160"/>
              <a:ext cx="2090520" cy="15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78"/>
            <p:cNvSpPr/>
            <p:nvPr/>
          </p:nvSpPr>
          <p:spPr>
            <a:xfrm>
              <a:off x="1590120" y="2125440"/>
              <a:ext cx="146304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177"/>
            <p:cNvSpPr/>
            <p:nvPr/>
          </p:nvSpPr>
          <p:spPr>
            <a:xfrm>
              <a:off x="3053160" y="2856240"/>
              <a:ext cx="1358280" cy="11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76"/>
            <p:cNvSpPr/>
            <p:nvPr/>
          </p:nvSpPr>
          <p:spPr>
            <a:xfrm>
              <a:off x="4411440" y="4006440"/>
              <a:ext cx="2089440" cy="62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175"/>
            <p:cNvSpPr/>
            <p:nvPr/>
          </p:nvSpPr>
          <p:spPr>
            <a:xfrm>
              <a:off x="1590120" y="2125440"/>
              <a:ext cx="114912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174"/>
            <p:cNvSpPr/>
            <p:nvPr/>
          </p:nvSpPr>
          <p:spPr>
            <a:xfrm>
              <a:off x="2739240" y="3379680"/>
              <a:ext cx="2089440" cy="62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173"/>
            <p:cNvSpPr/>
            <p:nvPr/>
          </p:nvSpPr>
          <p:spPr>
            <a:xfrm flipV="1">
              <a:off x="4829760" y="4006440"/>
              <a:ext cx="835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172"/>
            <p:cNvSpPr/>
            <p:nvPr/>
          </p:nvSpPr>
          <p:spPr>
            <a:xfrm>
              <a:off x="5665320" y="4006440"/>
              <a:ext cx="1776600" cy="83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71"/>
            <p:cNvSpPr/>
            <p:nvPr/>
          </p:nvSpPr>
          <p:spPr>
            <a:xfrm>
              <a:off x="1590120" y="2125440"/>
              <a:ext cx="4528800" cy="3100680"/>
            </a:xfrm>
            <a:custGeom>
              <a:avLst/>
              <a:gdLst/>
              <a:ahLst/>
              <a:rect l="l" t="t" r="r" b="b"/>
              <a:pathLst>
                <a:path w="6153" h="4213">
                  <a:moveTo>
                    <a:pt x="0" y="0"/>
                  </a:moveTo>
                  <a:cubicBezTo>
                    <a:pt x="449" y="769"/>
                    <a:pt x="899" y="1538"/>
                    <a:pt x="1562" y="2130"/>
                  </a:cubicBezTo>
                  <a:cubicBezTo>
                    <a:pt x="2225" y="2722"/>
                    <a:pt x="3266" y="3219"/>
                    <a:pt x="3976" y="3550"/>
                  </a:cubicBezTo>
                  <a:cubicBezTo>
                    <a:pt x="4686" y="3881"/>
                    <a:pt x="5491" y="4023"/>
                    <a:pt x="5822" y="4118"/>
                  </a:cubicBezTo>
                  <a:cubicBezTo>
                    <a:pt x="6153" y="4213"/>
                    <a:pt x="6058" y="4165"/>
                    <a:pt x="5964" y="4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70"/>
            <p:cNvSpPr/>
            <p:nvPr/>
          </p:nvSpPr>
          <p:spPr>
            <a:xfrm>
              <a:off x="1590120" y="2125440"/>
              <a:ext cx="5956560" cy="2926440"/>
            </a:xfrm>
            <a:custGeom>
              <a:avLst/>
              <a:gdLst/>
              <a:ahLst/>
              <a:rect l="l" t="t" r="r" b="b"/>
              <a:pathLst>
                <a:path w="8094" h="3976">
                  <a:moveTo>
                    <a:pt x="0" y="0"/>
                  </a:moveTo>
                  <a:cubicBezTo>
                    <a:pt x="946" y="378"/>
                    <a:pt x="1893" y="757"/>
                    <a:pt x="2698" y="1136"/>
                  </a:cubicBezTo>
                  <a:cubicBezTo>
                    <a:pt x="3503" y="1515"/>
                    <a:pt x="4165" y="1893"/>
                    <a:pt x="4828" y="2272"/>
                  </a:cubicBezTo>
                  <a:cubicBezTo>
                    <a:pt x="5491" y="2651"/>
                    <a:pt x="6201" y="3148"/>
                    <a:pt x="6674" y="3408"/>
                  </a:cubicBezTo>
                  <a:cubicBezTo>
                    <a:pt x="7147" y="3668"/>
                    <a:pt x="7431" y="3739"/>
                    <a:pt x="7668" y="3834"/>
                  </a:cubicBezTo>
                  <a:cubicBezTo>
                    <a:pt x="7905" y="3929"/>
                    <a:pt x="7999" y="3952"/>
                    <a:pt x="8094" y="39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Rectangle 2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43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4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32"/>
          <p:cNvSpPr/>
          <p:nvPr/>
        </p:nvSpPr>
        <p:spPr>
          <a:xfrm>
            <a:off x="684360" y="59500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tted lines stand out trajectories with high rate of favorable disease out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x of Inflammation (viral  inf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280" y="1052280"/>
            <a:ext cx="8507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im – estimation of defense reaction magnitude and its concordance with clinical state (inde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body temperature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 heart rate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rterial pressure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 A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values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= 0.1(T-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)+0.05(H-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)+0.6(AD-A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 index says nothing about mechanism(s) determined unfavorable disease outco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indexes of disease dangero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els of infection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sign of all indexes based on estimation   of deviation from normal state of homeosta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 index says nothing about mechanism(s) determined unfavorable disease outco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model of infection diseas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uk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802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 of h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ll or not to ill depends from inequalit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of health is unst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of health is st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echanism determined value of C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Объект 1"/>
          <p:cNvGraphicFramePr/>
          <p:nvPr/>
        </p:nvGraphicFramePr>
        <p:xfrm>
          <a:off x="539640" y="1197000"/>
          <a:ext cx="79423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794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Объект 2"/>
          <p:cNvGraphicFramePr/>
          <p:nvPr/>
        </p:nvGraphicFramePr>
        <p:xfrm>
          <a:off x="4243320" y="3500280"/>
          <a:ext cx="32497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3320" y="3500280"/>
                    <a:ext cx="3249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Объект 3"/>
          <p:cNvGraphicFramePr/>
          <p:nvPr/>
        </p:nvGraphicFramePr>
        <p:xfrm>
          <a:off x="3995640" y="4437000"/>
          <a:ext cx="31654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4437000"/>
                    <a:ext cx="3165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21:50:13Z</dcterms:created>
  <dc:creator>eburg</dc:creator>
  <dc:description/>
  <dc:language>en-US</dc:language>
  <cp:lastModifiedBy>eburg</cp:lastModifiedBy>
  <dcterms:modified xsi:type="dcterms:W3CDTF">2015-06-10T02:33:16Z</dcterms:modified>
  <cp:revision>26</cp:revision>
  <dc:subject/>
  <dc:title>BaciФундаментальные физиологические механизмы в моделях инфекционных заболеваний.</dc:title>
</cp:coreProperties>
</file>