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4.wmf" ContentType="image/x-wmf"/>
  <Override PartName="/ppt/media/image97.png" ContentType="image/png"/>
  <Override PartName="/ppt/media/image53.wmf" ContentType="image/x-wmf"/>
  <Override PartName="/ppt/media/image52.wmf" ContentType="image/x-wmf"/>
  <Override PartName="/ppt/media/image24.jpeg" ContentType="image/jpeg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0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41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115.png" ContentType="image/png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114.png" ContentType="image/png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113.png" ContentType="image/png"/>
  <Override PartName="/ppt/media/image48.wmf" ContentType="image/x-wmf"/>
  <Override PartName="/ppt/media/image11.wmf" ContentType="image/x-wmf"/>
  <Override PartName="/ppt/media/image3.png" ContentType="image/png"/>
  <Override PartName="/ppt/media/image36.wmf" ContentType="image/x-wmf"/>
  <Override PartName="/ppt/media/image6.wmf" ContentType="image/x-wmf"/>
  <Override PartName="/ppt/media/image83.wmf" ContentType="image/x-wmf"/>
  <Override PartName="/ppt/media/image112.png" ContentType="image/png"/>
  <Override PartName="/ppt/media/image47.wmf" ContentType="image/x-wmf"/>
  <Override PartName="/ppt/media/image10.wmf" ContentType="image/x-wmf"/>
  <Override PartName="/ppt/media/image107.wmf" ContentType="image/x-wmf"/>
  <Override PartName="/ppt/media/image2.png" ContentType="image/png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111.png" ContentType="image/png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110.png" ContentType="image/png"/>
  <Override PartName="/ppt/media/image27.wmf" ContentType="image/x-wmf"/>
  <Override PartName="/ppt/media/image72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76.wmf" ContentType="image/x-wmf"/>
  <Override PartName="/ppt/media/image105.png" ContentType="image/png"/>
  <Override PartName="/ppt/media/image59.wmf" ContentType="image/x-wmf"/>
  <Override PartName="/ppt/media/image77.wmf" ContentType="image/x-wmf"/>
  <Override PartName="/ppt/media/image106.png" ContentType="image/png"/>
  <Override PartName="/ppt/media/image23.wmf" ContentType="image/x-wmf"/>
  <Override PartName="/ppt/media/image78.wmf" ContentType="image/x-wmf"/>
  <Override PartName="/ppt/media/image90.png" ContentType="image/png"/>
  <Override PartName="/ppt/media/image119.png" ContentType="image/png"/>
  <Override PartName="/ppt/media/image104.png" ContentType="image/png"/>
  <Override PartName="/ppt/media/image75.wmf" ContentType="image/x-wmf"/>
  <Override PartName="/ppt/media/image92.png" ContentType="image/png"/>
  <Override PartName="/ppt/media/image103.png" ContentType="image/png"/>
  <Override PartName="/ppt/media/image74.wmf" ContentType="image/x-wmf"/>
  <Override PartName="/ppt/media/image109.png" ContentType="image/png"/>
  <Override PartName="/ppt/media/image87.wmf" ContentType="image/x-wmf"/>
  <Override PartName="/ppt/media/image116.png" ContentType="image/png"/>
  <Override PartName="/ppt/media/image101.wmf" ContentType="image/x-wmf"/>
  <Override PartName="/ppt/media/image29.wmf" ContentType="image/x-wmf"/>
  <Override PartName="/ppt/media/image94.wmf" ContentType="image/x-wmf"/>
  <Override PartName="/ppt/media/image99.wmf" ContentType="image/x-wmf"/>
  <Override PartName="/ppt/media/image62.wmf" ContentType="image/x-wmf"/>
  <Override PartName="/ppt/media/image98.wmf" ContentType="image/x-wmf"/>
  <Override PartName="/ppt/media/image61.wmf" ContentType="image/x-wmf"/>
  <Override PartName="/ppt/media/image96.wmf" ContentType="image/x-wmf"/>
  <Override PartName="/ppt/media/image95.wmf" ContentType="image/x-wmf"/>
  <Override PartName="/ppt/media/image102.wmf" ContentType="image/x-wmf"/>
  <Override PartName="/ppt/media/image73.wmf" ContentType="image/x-wmf"/>
  <Override PartName="/ppt/media/image79.wmf" ContentType="image/x-wmf"/>
  <Override PartName="/ppt/media/image108.png" ContentType="image/png"/>
  <Override PartName="/ppt/media/image25.wmf" ContentType="image/x-wmf"/>
  <Override PartName="/ppt/media/image88.wmf" ContentType="image/x-wmf"/>
  <Override PartName="/ppt/media/image117.png" ContentType="image/png"/>
  <Override PartName="/ppt/media/image118.png" ContentType="image/png"/>
  <Override PartName="/ppt/media/image89.wmf" ContentType="image/x-wmf"/>
  <Override PartName="/ppt/media/image71.wmf" ContentType="image/x-wmf"/>
  <Override PartName="/ppt/media/image1.png" ContentType="image/png"/>
  <Override PartName="/ppt/media/image7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0.wmf" ContentType="image/x-wmf"/>
  <Override PartName="/ppt/media/image26.wmf" ContentType="image/x-wmf"/>
  <Override PartName="/ppt/media/image91.wmf" ContentType="image/x-wmf"/>
  <Override PartName="/ppt/media/image22.wmf" ContentType="image/x-wmf"/>
  <Override PartName="/ppt/media/image100.jpeg" ContentType="image/jpeg"/>
  <Override PartName="/ppt/media/image18.jpeg" ContentType="image/jpeg"/>
  <Override PartName="/ppt/media/image55.wmf" ContentType="image/x-wmf"/>
  <Override PartName="/ppt/media/image15.wmf" ContentType="image/x-wmf"/>
  <Override PartName="/ppt/media/image80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86FF-3C61-4F56-BB20-678477DC0B27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3682-444C-4A6E-A554-DA0EC2A704A8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A715-CB52-4889-BFAF-2E427FC207F8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CDD6-AE7B-465D-A1FC-380CAE972053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A0B3-D937-49D7-B416-1D5B8D50513D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5ECC-9C4D-44BD-8369-23AEE60A041E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7C5A-4E13-46FB-94EB-970FE53B6890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2CF0-2EC0-4D6F-9596-2749C1CA7A94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7C95-FC2D-448C-AE59-73E297928D42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9C17-1222-448B-A8F8-D14CF35E1309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56FD-5A0E-4F10-8231-BDFE11C84258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5845-3684-4F91-B766-FD44C8BAD1B6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8C6D-0816-464E-BA22-AD335E87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2BD7-5F81-4A2C-A694-149652FD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489-2315-42A1-A278-940AEF9E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7A4-E6EE-421F-8393-22EE88A5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9FF-6F86-4FD2-A627-94B875F8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CAF7-9FF2-42C4-8B28-5E73ED0E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E39-6F33-4693-BDE3-307300AA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62D-2663-49CD-93F7-70BD38F6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DE1B-4B2B-4FD8-A950-2AAB5DD4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5AA-45F7-47CB-8A92-D7597EEC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094E-1B45-4976-B447-77EEF491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225A-480D-4B62-A6E6-087B1CA2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3348-5897-45E8-BC8F-692E3B57ED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mailto:shaidurov04@mail.ru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5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7.wmf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5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1.wmf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6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9.wmf"/><Relationship Id="rId7" Type="http://schemas.openxmlformats.org/officeDocument/2006/relationships/image" Target="../media/image9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image" Target="../media/image9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4.wmf"/><Relationship Id="rId5" Type="http://schemas.openxmlformats.org/officeDocument/2006/relationships/image" Target="../media/image9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wmf"/><Relationship Id="rId5" Type="http://schemas.openxmlformats.org/officeDocument/2006/relationships/image" Target="../media/image9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wmf"/><Relationship Id="rId5" Type="http://schemas.openxmlformats.org/officeDocument/2006/relationships/image" Target="../media/image100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04.png"/><Relationship Id="rId3" Type="http://schemas.openxmlformats.org/officeDocument/2006/relationships/image" Target="../media/image105.png"/><Relationship Id="rId4" Type="http://schemas.openxmlformats.org/officeDocument/2006/relationships/image" Target="../media/image10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image" Target="../media/image112.png"/><Relationship Id="rId4" Type="http://schemas.openxmlformats.org/officeDocument/2006/relationships/image" Target="../media/image1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image" Target="../media/image116.png"/><Relationship Id="rId4" Type="http://schemas.openxmlformats.org/officeDocument/2006/relationships/image" Target="../media/image1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image" Target="../media/image24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9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image" Target="../media/image24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2.wm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-1122480" y="255600"/>
            <a:ext cx="1451160" cy="97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-1768320" y="1219320"/>
            <a:ext cx="2097000" cy="1365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85880" y="1612800"/>
            <a:ext cx="76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3"/>
          <a:stretch/>
        </p:blipFill>
        <p:spPr>
          <a:xfrm>
            <a:off x="-1219320" y="554040"/>
            <a:ext cx="1335240" cy="903240"/>
          </a:xfrm>
          <a:prstGeom prst="rect">
            <a:avLst/>
          </a:prstGeom>
          <a:ln w="0">
            <a:noFill/>
          </a:ln>
        </p:spPr>
      </p:pic>
      <p:sp>
        <p:nvSpPr>
          <p:cNvPr id="52" name="TextBox 9"/>
          <p:cNvSpPr/>
          <p:nvPr/>
        </p:nvSpPr>
        <p:spPr>
          <a:xfrm>
            <a:off x="684360" y="184464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-Lagrangian Approximation in the Time-Dependent Navier-Stokes Equation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539640" y="3573360"/>
            <a:ext cx="7920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Arial"/>
              </a:rPr>
              <a:t>Vladimir V.  Shaydurov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Arial"/>
              </a:rPr>
              <a:t>Institute of Computational Modeling of Siberian Branch of Russian Academy of Sciences, Krasnoyarsk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Arial"/>
              </a:rPr>
              <a:t>Beihang University, Beijing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haidurov04@mail.ru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0000"/>
                </a:solidFill>
                <a:latin typeface="Arial"/>
              </a:rPr>
              <a:t>in cooperation with G. Shchepanovskaya and M. Yakubovich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24 0.01736 L -0.01823 0.05741 C -0.00416 0.06643 0.01684 0.0713 0.03872 0.0713 C 0.06372 0.0713 0.08368 0.06643 0.09775 0.05741 L 0.16476 0.01736 E">
                                      <p:cBhvr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37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17 0.04537 L 0.06667 0.12593 C 0.08056 0.14468 0.10208 0.15417 0.12396 0.15417 C 0.14913 0.15417 0.16858 0.14468 0.18351 0.12593 L 0.25174 0.04537 E">
                                      <p:cBhvr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" nodeType="afterEffect" fill="hold" presetClass="path" presetID="37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6007 0.03403 L 0.16788 0.08102 C 0.1901 0.09144 0.21997 0.09468 0.24948 0.08264 C 0.28247 0.06898 0.30764 0.04491 0.31858 0.01598 L 0.38785 -0.10856 E">
                                      <p:cBhvr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terpolation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7" descr="рисунок 2.jpg"/>
          <p:cNvPicPr/>
          <p:nvPr/>
        </p:nvPicPr>
        <p:blipFill>
          <a:blip r:embed="rId1"/>
          <a:stretch/>
        </p:blipFill>
        <p:spPr>
          <a:xfrm>
            <a:off x="539640" y="865080"/>
            <a:ext cx="2667240" cy="253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Object 7"/>
          <p:cNvGraphicFramePr/>
          <p:nvPr/>
        </p:nvGraphicFramePr>
        <p:xfrm>
          <a:off x="1332000" y="3213000"/>
          <a:ext cx="258840" cy="37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3213000"/>
                    <a:ext cx="2588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8"/>
          <p:cNvGraphicFramePr/>
          <p:nvPr/>
        </p:nvGraphicFramePr>
        <p:xfrm>
          <a:off x="3059280" y="2276640"/>
          <a:ext cx="318960" cy="417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59280" y="2276640"/>
                    <a:ext cx="31896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9"/>
          <p:cNvGraphicFramePr/>
          <p:nvPr/>
        </p:nvGraphicFramePr>
        <p:xfrm>
          <a:off x="1547640" y="1844640"/>
          <a:ext cx="657360" cy="37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7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1844640"/>
                    <a:ext cx="65736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5"/>
          <p:cNvGraphicFramePr/>
          <p:nvPr/>
        </p:nvGraphicFramePr>
        <p:xfrm>
          <a:off x="1979640" y="4292640"/>
          <a:ext cx="5514840" cy="934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4292640"/>
                    <a:ext cx="55148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"/>
          <p:cNvGraphicFramePr/>
          <p:nvPr/>
        </p:nvGraphicFramePr>
        <p:xfrm>
          <a:off x="4344840" y="2349360"/>
          <a:ext cx="3603600" cy="417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1" name="Object 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44840" y="2349360"/>
                    <a:ext cx="36036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nnection between interpo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"/>
          <p:cNvGraphicFramePr/>
          <p:nvPr/>
        </p:nvGraphicFramePr>
        <p:xfrm>
          <a:off x="4500720" y="1413000"/>
          <a:ext cx="3006720" cy="41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413000"/>
                    <a:ext cx="300672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5148360" y="2421000"/>
          <a:ext cx="205092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2421000"/>
                    <a:ext cx="20509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7"/>
          <p:cNvGraphicFramePr/>
          <p:nvPr/>
        </p:nvGraphicFramePr>
        <p:xfrm>
          <a:off x="2916360" y="3357720"/>
          <a:ext cx="5595840" cy="264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3357720"/>
                    <a:ext cx="559584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Рисунок 7" descr="рисунок 2.jpg"/>
          <p:cNvPicPr/>
          <p:nvPr/>
        </p:nvPicPr>
        <p:blipFill>
          <a:blip r:embed="rId7"/>
          <a:stretch/>
        </p:blipFill>
        <p:spPr>
          <a:xfrm>
            <a:off x="250920" y="907920"/>
            <a:ext cx="25970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by higher order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2"/>
          <p:cNvGraphicFramePr/>
          <p:nvPr/>
        </p:nvGraphicFramePr>
        <p:xfrm>
          <a:off x="2050920" y="1484280"/>
          <a:ext cx="4938840" cy="7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484280"/>
                    <a:ext cx="493884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3"/>
          <p:cNvGraphicFramePr/>
          <p:nvPr/>
        </p:nvGraphicFramePr>
        <p:xfrm>
          <a:off x="1979640" y="2997360"/>
          <a:ext cx="5326200" cy="22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2997360"/>
                    <a:ext cx="532620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two problems with the first and second order of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2"/>
          <p:cNvGraphicFramePr/>
          <p:nvPr/>
        </p:nvGraphicFramePr>
        <p:xfrm>
          <a:off x="468360" y="1587600"/>
          <a:ext cx="814212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87600"/>
                    <a:ext cx="814212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3"/>
          <p:cNvGraphicFramePr/>
          <p:nvPr/>
        </p:nvGraphicFramePr>
        <p:xfrm>
          <a:off x="971640" y="3573360"/>
          <a:ext cx="7024680" cy="233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573360"/>
                    <a:ext cx="7024680" cy="23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avier-Stokes equations. Computational geometric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Клин_1"/>
          <p:cNvPicPr/>
          <p:nvPr/>
        </p:nvPicPr>
        <p:blipFill>
          <a:blip r:embed="rId1"/>
          <a:stretch/>
        </p:blipFill>
        <p:spPr>
          <a:xfrm>
            <a:off x="1403280" y="3213000"/>
            <a:ext cx="2600280" cy="18385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2"/>
          <p:cNvSpPr/>
          <p:nvPr/>
        </p:nvSpPr>
        <p:spPr>
          <a:xfrm>
            <a:off x="1116000" y="2997360"/>
            <a:ext cx="7056360" cy="237636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468360" y="4116240"/>
          <a:ext cx="287280" cy="29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4116240"/>
                    <a:ext cx="28728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3"/>
          <p:cNvGraphicFramePr/>
          <p:nvPr/>
        </p:nvGraphicFramePr>
        <p:xfrm>
          <a:off x="4356000" y="2565360"/>
          <a:ext cx="344520" cy="2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2565360"/>
                    <a:ext cx="344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"/>
          <p:cNvGraphicFramePr/>
          <p:nvPr/>
        </p:nvGraphicFramePr>
        <p:xfrm>
          <a:off x="7236000" y="4869000"/>
          <a:ext cx="222120" cy="225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8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36000" y="4869000"/>
                    <a:ext cx="22212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6"/>
          <p:cNvGraphicFramePr/>
          <p:nvPr/>
        </p:nvGraphicFramePr>
        <p:xfrm>
          <a:off x="4356000" y="5649840"/>
          <a:ext cx="360360" cy="300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56000" y="5649840"/>
                    <a:ext cx="36036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7"/>
          <p:cNvGraphicFramePr/>
          <p:nvPr/>
        </p:nvGraphicFramePr>
        <p:xfrm>
          <a:off x="8459640" y="4064040"/>
          <a:ext cx="360360" cy="301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459640" y="4064040"/>
                    <a:ext cx="36036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Box 10"/>
          <p:cNvSpPr/>
          <p:nvPr/>
        </p:nvSpPr>
        <p:spPr>
          <a:xfrm>
            <a:off x="3492360" y="3429000"/>
            <a:ext cx="287640" cy="31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84" name="Object 10"/>
          <p:cNvGraphicFramePr/>
          <p:nvPr/>
        </p:nvGraphicFramePr>
        <p:xfrm>
          <a:off x="3492360" y="4005360"/>
          <a:ext cx="432000" cy="326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5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92360" y="4005360"/>
                    <a:ext cx="43200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avier-Stokes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5"/>
          <p:cNvGraphicFramePr/>
          <p:nvPr/>
        </p:nvGraphicFramePr>
        <p:xfrm>
          <a:off x="2050920" y="1341360"/>
          <a:ext cx="114156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341360"/>
                    <a:ext cx="114156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90" name="Object 6"/>
          <p:cNvGraphicFramePr/>
          <p:nvPr/>
        </p:nvGraphicFramePr>
        <p:xfrm>
          <a:off x="7524720" y="1413000"/>
          <a:ext cx="863640" cy="25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720" y="1413000"/>
                    <a:ext cx="863640" cy="25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Прямоугольник 11"/>
          <p:cNvSpPr/>
          <p:nvPr/>
        </p:nvSpPr>
        <p:spPr>
          <a:xfrm>
            <a:off x="214200" y="128592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Calibri"/>
              </a:rPr>
              <a:t>In the cylinder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3373200" y="128628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Calibri"/>
              </a:rPr>
              <a:t>we write 4 equations in unknowns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96" name="Object 12"/>
          <p:cNvGraphicFramePr/>
          <p:nvPr/>
        </p:nvGraphicFramePr>
        <p:xfrm>
          <a:off x="2759040" y="3165480"/>
          <a:ext cx="304956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59040" y="3165480"/>
                    <a:ext cx="30495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99" name="Object 14"/>
          <p:cNvGraphicFramePr/>
          <p:nvPr/>
        </p:nvGraphicFramePr>
        <p:xfrm>
          <a:off x="2832120" y="4211640"/>
          <a:ext cx="3048120" cy="74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32120" y="4211640"/>
                    <a:ext cx="30481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02" name="Object 16"/>
          <p:cNvGraphicFramePr/>
          <p:nvPr/>
        </p:nvGraphicFramePr>
        <p:xfrm>
          <a:off x="2759040" y="5400720"/>
          <a:ext cx="4078440" cy="80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3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59040" y="5400720"/>
                    <a:ext cx="40784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1"/>
          <p:cNvGraphicFramePr/>
          <p:nvPr/>
        </p:nvGraphicFramePr>
        <p:xfrm>
          <a:off x="3219480" y="2060640"/>
          <a:ext cx="2297160" cy="70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5" name="Object 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19480" y="2060640"/>
                    <a:ext cx="22971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08" name="Object 1"/>
          <p:cNvGraphicFramePr/>
          <p:nvPr/>
        </p:nvGraphicFramePr>
        <p:xfrm>
          <a:off x="1476360" y="1447920"/>
          <a:ext cx="2016000" cy="3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47920"/>
                    <a:ext cx="20160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3"/>
          <p:cNvGraphicFramePr/>
          <p:nvPr/>
        </p:nvGraphicFramePr>
        <p:xfrm>
          <a:off x="1403280" y="2060640"/>
          <a:ext cx="5761080" cy="31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060640"/>
                    <a:ext cx="576108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4"/>
          <p:cNvGraphicFramePr/>
          <p:nvPr/>
        </p:nvGraphicFramePr>
        <p:xfrm>
          <a:off x="1476360" y="2654280"/>
          <a:ext cx="3959280" cy="31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2654280"/>
                    <a:ext cx="395928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5"/>
          <p:cNvGraphicFramePr/>
          <p:nvPr/>
        </p:nvGraphicFramePr>
        <p:xfrm>
          <a:off x="1476360" y="3284640"/>
          <a:ext cx="2158920" cy="32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3284640"/>
                    <a:ext cx="215892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19" name="Object 10"/>
          <p:cNvGraphicFramePr/>
          <p:nvPr/>
        </p:nvGraphicFramePr>
        <p:xfrm>
          <a:off x="2987640" y="4005360"/>
          <a:ext cx="2521080" cy="657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7640" y="4005360"/>
                    <a:ext cx="252108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22" name="Object 12"/>
          <p:cNvGraphicFramePr/>
          <p:nvPr/>
        </p:nvGraphicFramePr>
        <p:xfrm>
          <a:off x="1692360" y="5038560"/>
          <a:ext cx="4248000" cy="374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3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92360" y="5038560"/>
                    <a:ext cx="424800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25" name="Object 14"/>
          <p:cNvGraphicFramePr/>
          <p:nvPr/>
        </p:nvGraphicFramePr>
        <p:xfrm>
          <a:off x="1714680" y="5761080"/>
          <a:ext cx="4081320" cy="514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6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14680" y="5761080"/>
                    <a:ext cx="40813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6"/>
          <p:cNvGraphicFramePr/>
          <p:nvPr/>
        </p:nvGraphicFramePr>
        <p:xfrm>
          <a:off x="1258920" y="1700280"/>
          <a:ext cx="6049800" cy="123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00280"/>
                    <a:ext cx="604980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8"/>
          <p:cNvGraphicFramePr/>
          <p:nvPr/>
        </p:nvGraphicFramePr>
        <p:xfrm>
          <a:off x="1979640" y="3619440"/>
          <a:ext cx="4824360" cy="16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19440"/>
                    <a:ext cx="482436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34" name="Object 1"/>
          <p:cNvGraphicFramePr/>
          <p:nvPr/>
        </p:nvGraphicFramePr>
        <p:xfrm>
          <a:off x="1403280" y="1157400"/>
          <a:ext cx="612144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157400"/>
                    <a:ext cx="61214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37" name="Object 3"/>
          <p:cNvGraphicFramePr/>
          <p:nvPr/>
        </p:nvGraphicFramePr>
        <p:xfrm>
          <a:off x="2124000" y="1819440"/>
          <a:ext cx="4464000" cy="68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1819440"/>
                    <a:ext cx="446400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40" name="Object 5"/>
          <p:cNvGraphicFramePr/>
          <p:nvPr/>
        </p:nvGraphicFramePr>
        <p:xfrm>
          <a:off x="3348000" y="4238640"/>
          <a:ext cx="1368360" cy="31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8000" y="4238640"/>
                    <a:ext cx="136836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43" name="Object 7"/>
          <p:cNvGraphicFramePr/>
          <p:nvPr/>
        </p:nvGraphicFramePr>
        <p:xfrm>
          <a:off x="1476360" y="5435640"/>
          <a:ext cx="5975280" cy="92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5435640"/>
                    <a:ext cx="59752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9"/>
          <p:cNvGraphicFramePr/>
          <p:nvPr/>
        </p:nvGraphicFramePr>
        <p:xfrm>
          <a:off x="1692360" y="2754360"/>
          <a:ext cx="532764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6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92360" y="2754360"/>
                    <a:ext cx="53276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10"/>
          <p:cNvGraphicFramePr/>
          <p:nvPr/>
        </p:nvGraphicFramePr>
        <p:xfrm>
          <a:off x="1908000" y="3740040"/>
          <a:ext cx="5832720" cy="312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08000" y="3740040"/>
                    <a:ext cx="583272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1"/>
          <p:cNvGraphicFramePr/>
          <p:nvPr/>
        </p:nvGraphicFramePr>
        <p:xfrm>
          <a:off x="2268360" y="4857840"/>
          <a:ext cx="4535640" cy="317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0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68360" y="4857840"/>
                    <a:ext cx="45356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6337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itial and boundary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53" name="Object 1"/>
          <p:cNvGraphicFramePr/>
          <p:nvPr/>
        </p:nvGraphicFramePr>
        <p:xfrm>
          <a:off x="3635280" y="2133720"/>
          <a:ext cx="1441440" cy="3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133720"/>
                    <a:ext cx="144144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56" name="Object 3"/>
          <p:cNvGraphicFramePr/>
          <p:nvPr/>
        </p:nvGraphicFramePr>
        <p:xfrm>
          <a:off x="3851280" y="4797360"/>
          <a:ext cx="161928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797360"/>
                    <a:ext cx="16192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59" name="Object 5"/>
          <p:cNvGraphicFramePr/>
          <p:nvPr/>
        </p:nvGraphicFramePr>
        <p:xfrm>
          <a:off x="3635280" y="1557360"/>
          <a:ext cx="1944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5280" y="1557360"/>
                    <a:ext cx="1944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62" name="Object 7"/>
          <p:cNvGraphicFramePr/>
          <p:nvPr/>
        </p:nvGraphicFramePr>
        <p:xfrm>
          <a:off x="3635280" y="2781360"/>
          <a:ext cx="180036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2781360"/>
                    <a:ext cx="180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65" name="Object 9"/>
          <p:cNvGraphicFramePr/>
          <p:nvPr/>
        </p:nvGraphicFramePr>
        <p:xfrm>
          <a:off x="3851280" y="4221000"/>
          <a:ext cx="2089080" cy="373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6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1280" y="4221000"/>
                    <a:ext cx="208908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68" name="Object 11"/>
          <p:cNvGraphicFramePr/>
          <p:nvPr/>
        </p:nvGraphicFramePr>
        <p:xfrm>
          <a:off x="3851280" y="5373720"/>
          <a:ext cx="1822320" cy="34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9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51280" y="5373720"/>
                    <a:ext cx="182232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14"/>
          <p:cNvGraphicFramePr/>
          <p:nvPr/>
        </p:nvGraphicFramePr>
        <p:xfrm>
          <a:off x="900000" y="1341360"/>
          <a:ext cx="1276560" cy="336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1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00000" y="1341360"/>
                    <a:ext cx="127656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5"/>
          <p:cNvGraphicFramePr/>
          <p:nvPr/>
        </p:nvGraphicFramePr>
        <p:xfrm>
          <a:off x="1042920" y="3860640"/>
          <a:ext cx="1873440" cy="412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3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42920" y="3860640"/>
                    <a:ext cx="18734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SimSun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050920" y="2205000"/>
            <a:ext cx="6624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onvection-diffusion equation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Modified method of characteristics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onservation law of mass: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pproximation in 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  norm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nite element method: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pproximation in 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  norm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56" name="Object 7"/>
          <p:cNvGraphicFramePr/>
          <p:nvPr/>
        </p:nvGraphicFramePr>
        <p:xfrm>
          <a:off x="4559400" y="3429000"/>
          <a:ext cx="49356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9400" y="3429000"/>
                    <a:ext cx="4935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8"/>
          <p:cNvGraphicFramePr/>
          <p:nvPr/>
        </p:nvGraphicFramePr>
        <p:xfrm>
          <a:off x="4476600" y="4354560"/>
          <a:ext cx="527040" cy="36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6600" y="4354560"/>
                    <a:ext cx="52704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Object 5"/>
          <p:cNvGraphicFramePr/>
          <p:nvPr/>
        </p:nvGraphicFramePr>
        <p:xfrm>
          <a:off x="1979640" y="5373720"/>
          <a:ext cx="5032440" cy="8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5373720"/>
                    <a:ext cx="503244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16"/>
          <p:cNvGraphicFramePr/>
          <p:nvPr/>
        </p:nvGraphicFramePr>
        <p:xfrm>
          <a:off x="2268360" y="2060640"/>
          <a:ext cx="4086360" cy="81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2060640"/>
                    <a:ext cx="40863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7"/>
          <p:cNvGraphicFramePr/>
          <p:nvPr/>
        </p:nvGraphicFramePr>
        <p:xfrm>
          <a:off x="484200" y="3357720"/>
          <a:ext cx="89064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4200" y="3357720"/>
                    <a:ext cx="8906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8"/>
          <p:cNvGraphicFramePr/>
          <p:nvPr/>
        </p:nvGraphicFramePr>
        <p:xfrm>
          <a:off x="2268360" y="3213000"/>
          <a:ext cx="4330800" cy="82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8360" y="3213000"/>
                    <a:ext cx="43308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6"/>
          <p:cNvGraphicFramePr/>
          <p:nvPr/>
        </p:nvGraphicFramePr>
        <p:xfrm>
          <a:off x="3564000" y="4238640"/>
          <a:ext cx="1439640" cy="71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64000" y="4238640"/>
                    <a:ext cx="1439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7"/>
          <p:cNvGraphicFramePr/>
          <p:nvPr/>
        </p:nvGraphicFramePr>
        <p:xfrm>
          <a:off x="1403280" y="404640"/>
          <a:ext cx="6902640" cy="130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03280" y="404640"/>
                    <a:ext cx="690264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67690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oundary conditions at outlet supersonic and rigid 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8" name="Object 1"/>
          <p:cNvGraphicFramePr/>
          <p:nvPr/>
        </p:nvGraphicFramePr>
        <p:xfrm>
          <a:off x="3738600" y="2046240"/>
          <a:ext cx="936720" cy="20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8600" y="2046240"/>
                    <a:ext cx="93672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91" name="Object 3"/>
          <p:cNvGraphicFramePr/>
          <p:nvPr/>
        </p:nvGraphicFramePr>
        <p:xfrm>
          <a:off x="974880" y="1484280"/>
          <a:ext cx="21477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4880" y="1484280"/>
                    <a:ext cx="2147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5"/>
          <p:cNvGraphicFramePr/>
          <p:nvPr/>
        </p:nvGraphicFramePr>
        <p:xfrm>
          <a:off x="1209600" y="4365720"/>
          <a:ext cx="21225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09600" y="4365720"/>
                    <a:ext cx="21225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6"/>
          <p:cNvGraphicFramePr/>
          <p:nvPr/>
        </p:nvGraphicFramePr>
        <p:xfrm>
          <a:off x="3862440" y="4960800"/>
          <a:ext cx="571320" cy="273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62440" y="4960800"/>
                    <a:ext cx="571320" cy="2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7"/>
          <p:cNvGraphicFramePr/>
          <p:nvPr/>
        </p:nvGraphicFramePr>
        <p:xfrm>
          <a:off x="3946680" y="5445000"/>
          <a:ext cx="76644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46680" y="5445000"/>
                    <a:ext cx="766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67690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oundary conditions at subsonic part of computational 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02" name="Object 3"/>
          <p:cNvGraphicFramePr/>
          <p:nvPr/>
        </p:nvGraphicFramePr>
        <p:xfrm>
          <a:off x="1036800" y="1484280"/>
          <a:ext cx="202248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6800" y="1484280"/>
                    <a:ext cx="20224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7"/>
          <p:cNvGraphicFramePr/>
          <p:nvPr/>
        </p:nvGraphicFramePr>
        <p:xfrm>
          <a:off x="3635280" y="2565360"/>
          <a:ext cx="766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2565360"/>
                    <a:ext cx="766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07" name="Object 4"/>
          <p:cNvGraphicFramePr/>
          <p:nvPr/>
        </p:nvGraphicFramePr>
        <p:xfrm>
          <a:off x="3348000" y="2060640"/>
          <a:ext cx="158760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8000" y="2060640"/>
                    <a:ext cx="1587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9" name="Рисунок 0" descr="Клин_3.bmp"/>
          <p:cNvPicPr/>
          <p:nvPr/>
        </p:nvPicPr>
        <p:blipFill>
          <a:blip r:embed="rId7"/>
          <a:stretch/>
        </p:blipFill>
        <p:spPr>
          <a:xfrm>
            <a:off x="2268360" y="3789360"/>
            <a:ext cx="4291200" cy="251928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12"/>
          <p:cNvSpPr/>
          <p:nvPr/>
        </p:nvSpPr>
        <p:spPr>
          <a:xfrm>
            <a:off x="3851280" y="48693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ak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c0000"/>
                </a:solidFill>
                <a:latin typeface="Arial"/>
              </a:rPr>
              <a:t>Direct approxima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1"/>
          <p:cNvGraphicFramePr/>
          <p:nvPr/>
        </p:nvGraphicFramePr>
        <p:xfrm>
          <a:off x="2700360" y="1197000"/>
          <a:ext cx="37018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197000"/>
                    <a:ext cx="3701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4" name="Picture 3" descr=""/>
          <p:cNvPicPr/>
          <p:nvPr/>
        </p:nvPicPr>
        <p:blipFill>
          <a:blip r:embed="rId3"/>
          <a:stretch/>
        </p:blipFill>
        <p:spPr>
          <a:xfrm>
            <a:off x="4067280" y="2492280"/>
            <a:ext cx="3990960" cy="1981440"/>
          </a:xfrm>
          <a:prstGeom prst="rect">
            <a:avLst/>
          </a:prstGeom>
          <a:ln w="0">
            <a:noFill/>
          </a:ln>
        </p:spPr>
      </p:pic>
      <p:sp>
        <p:nvSpPr>
          <p:cNvPr id="315" name="TextBox 5"/>
          <p:cNvSpPr/>
          <p:nvPr/>
        </p:nvSpPr>
        <p:spPr>
          <a:xfrm>
            <a:off x="622800" y="3141720"/>
            <a:ext cx="315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vilinear hexahedr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3132000" y="4797360"/>
          <a:ext cx="3384720" cy="148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4797360"/>
                    <a:ext cx="33847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TextBox 7"/>
          <p:cNvSpPr/>
          <p:nvPr/>
        </p:nvSpPr>
        <p:spPr>
          <a:xfrm>
            <a:off x="685440" y="508464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jecto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Object 1"/>
          <p:cNvGraphicFramePr/>
          <p:nvPr/>
        </p:nvGraphicFramePr>
        <p:xfrm>
          <a:off x="2050920" y="1736640"/>
          <a:ext cx="4321440" cy="7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736640"/>
                    <a:ext cx="432144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TextBox 5"/>
          <p:cNvSpPr/>
          <p:nvPr/>
        </p:nvSpPr>
        <p:spPr>
          <a:xfrm>
            <a:off x="681480" y="3213000"/>
            <a:ext cx="33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ion of curvilinear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rang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22" name="Object 3"/>
          <p:cNvGraphicFramePr/>
          <p:nvPr/>
        </p:nvGraphicFramePr>
        <p:xfrm>
          <a:off x="1054080" y="5221440"/>
          <a:ext cx="624348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4080" y="5221440"/>
                    <a:ext cx="62434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TextBox 7"/>
          <p:cNvSpPr/>
          <p:nvPr/>
        </p:nvSpPr>
        <p:spPr>
          <a:xfrm>
            <a:off x="766440" y="907920"/>
            <a:ext cx="45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Gauss-Ostrogradskii Theor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5"/>
          <a:stretch/>
        </p:blipFill>
        <p:spPr>
          <a:xfrm>
            <a:off x="4211640" y="2852640"/>
            <a:ext cx="39909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Object 1"/>
          <p:cNvGraphicFramePr/>
          <p:nvPr/>
        </p:nvGraphicFramePr>
        <p:xfrm>
          <a:off x="971640" y="1557360"/>
          <a:ext cx="532908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57360"/>
                    <a:ext cx="53290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3"/>
          <p:cNvGraphicFramePr/>
          <p:nvPr/>
        </p:nvGraphicFramePr>
        <p:xfrm>
          <a:off x="1704960" y="4925880"/>
          <a:ext cx="4871880" cy="13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4960" y="4925880"/>
                    <a:ext cx="48718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TextBox 7"/>
          <p:cNvSpPr/>
          <p:nvPr/>
        </p:nvSpPr>
        <p:spPr>
          <a:xfrm>
            <a:off x="847080" y="692280"/>
            <a:ext cx="76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uss-Ostrogradskii Theorem in the case of boundary condi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5"/>
          <a:stretch/>
        </p:blipFill>
        <p:spPr>
          <a:xfrm>
            <a:off x="4572000" y="2492280"/>
            <a:ext cx="38768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Object 12"/>
          <p:cNvGraphicFramePr/>
          <p:nvPr/>
        </p:nvGraphicFramePr>
        <p:xfrm>
          <a:off x="4500720" y="1773360"/>
          <a:ext cx="305748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773360"/>
                    <a:ext cx="30574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6"/>
          <p:cNvGraphicFramePr/>
          <p:nvPr/>
        </p:nvGraphicFramePr>
        <p:xfrm>
          <a:off x="1835280" y="3141720"/>
          <a:ext cx="934920" cy="36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141720"/>
                    <a:ext cx="93492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Text Box 9"/>
          <p:cNvSpPr/>
          <p:nvPr/>
        </p:nvSpPr>
        <p:spPr>
          <a:xfrm>
            <a:off x="2771640" y="476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0000"/>
                </a:solidFill>
                <a:latin typeface="Arial Unicode MS"/>
              </a:rPr>
              <a:t>Discrete approac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37" name="Рисунок 7" descr="basic funct.jpg"/>
          <p:cNvPicPr/>
          <p:nvPr/>
        </p:nvPicPr>
        <p:blipFill>
          <a:blip r:embed="rId5"/>
          <a:stretch/>
        </p:blipFill>
        <p:spPr>
          <a:xfrm>
            <a:off x="3059280" y="3429000"/>
            <a:ext cx="378108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Object 5"/>
          <p:cNvGraphicFramePr/>
          <p:nvPr/>
        </p:nvGraphicFramePr>
        <p:xfrm>
          <a:off x="1911240" y="1844640"/>
          <a:ext cx="5865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1240" y="1844640"/>
                    <a:ext cx="5865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Text Box 9"/>
          <p:cNvSpPr/>
          <p:nvPr/>
        </p:nvSpPr>
        <p:spPr>
          <a:xfrm>
            <a:off x="1116000" y="403200"/>
            <a:ext cx="70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0000"/>
                </a:solidFill>
                <a:latin typeface="Arial Unicode MS"/>
              </a:rPr>
              <a:t>Matrix of finite element formulation at time layer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41" name="Object 5"/>
          <p:cNvGraphicFramePr/>
          <p:nvPr/>
        </p:nvGraphicFramePr>
        <p:xfrm>
          <a:off x="7740720" y="476280"/>
          <a:ext cx="56808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0720" y="476280"/>
                    <a:ext cx="5680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8"/>
          <p:cNvSpPr/>
          <p:nvPr/>
        </p:nvSpPr>
        <p:spPr>
          <a:xfrm>
            <a:off x="324000" y="189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 Unicode MS"/>
              </a:rPr>
              <a:t>Supersonic flow around wedg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4" name="Прямоугольник 9"/>
          <p:cNvSpPr/>
          <p:nvPr/>
        </p:nvSpPr>
        <p:spPr>
          <a:xfrm>
            <a:off x="1258920" y="662040"/>
            <a:ext cx="640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4,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ngle of the wedge </a:t>
            </a:r>
            <a:r>
              <a:rPr b="0" i="1" lang="el-GR" sz="1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≈ 53.1º,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ngle of attack </a:t>
            </a:r>
            <a:r>
              <a:rPr b="0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= 0º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45" name="Рисунок 17" descr="Описание: density(M=4_Re=2000_t=8)_"/>
          <p:cNvPicPr/>
          <p:nvPr/>
        </p:nvPicPr>
        <p:blipFill>
          <a:blip r:embed="rId1"/>
          <a:stretch/>
        </p:blipFill>
        <p:spPr>
          <a:xfrm>
            <a:off x="395280" y="1511280"/>
            <a:ext cx="3159000" cy="210672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18" descr="Описание: velocity(M=4_Re=2000_t=8)_"/>
          <p:cNvPicPr/>
          <p:nvPr/>
        </p:nvPicPr>
        <p:blipFill>
          <a:blip r:embed="rId2"/>
          <a:stretch/>
        </p:blipFill>
        <p:spPr>
          <a:xfrm>
            <a:off x="5651640" y="1511280"/>
            <a:ext cx="3143160" cy="209556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19" descr="Описание: density(M=4_Re=2000_t=20)"/>
          <p:cNvPicPr/>
          <p:nvPr/>
        </p:nvPicPr>
        <p:blipFill>
          <a:blip r:embed="rId3"/>
          <a:stretch/>
        </p:blipFill>
        <p:spPr>
          <a:xfrm>
            <a:off x="379440" y="3860640"/>
            <a:ext cx="3143160" cy="209556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20" descr="Описание: velocity(M=4_Re=2000_t=20)_"/>
          <p:cNvPicPr/>
          <p:nvPr/>
        </p:nvPicPr>
        <p:blipFill>
          <a:blip r:embed="rId4"/>
          <a:stretch/>
        </p:blipFill>
        <p:spPr>
          <a:xfrm>
            <a:off x="5651640" y="3875040"/>
            <a:ext cx="3143160" cy="20955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18"/>
          <p:cNvSpPr/>
          <p:nvPr/>
        </p:nvSpPr>
        <p:spPr>
          <a:xfrm>
            <a:off x="0" y="74520"/>
            <a:ext cx="914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4371120" y="2399400"/>
            <a:ext cx="4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1" name="Rectangle 20"/>
          <p:cNvSpPr/>
          <p:nvPr/>
        </p:nvSpPr>
        <p:spPr>
          <a:xfrm>
            <a:off x="3015000" y="3575520"/>
            <a:ext cx="33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sity and longitudinal velocity a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2" name="Rectangle 21"/>
          <p:cNvSpPr/>
          <p:nvPr/>
        </p:nvSpPr>
        <p:spPr>
          <a:xfrm>
            <a:off x="4393080" y="7047720"/>
            <a:ext cx="3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53" name="Object 6"/>
          <p:cNvGraphicFramePr/>
          <p:nvPr/>
        </p:nvGraphicFramePr>
        <p:xfrm>
          <a:off x="2627280" y="1197000"/>
          <a:ext cx="3529080" cy="29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1197000"/>
                    <a:ext cx="35290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Rectangle 20"/>
          <p:cNvSpPr/>
          <p:nvPr/>
        </p:nvSpPr>
        <p:spPr>
          <a:xfrm>
            <a:off x="3018600" y="6237720"/>
            <a:ext cx="342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sity and longitudinal velocity a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21" descr="Описание: density(M=4_Re=2000_t=50)"/>
          <p:cNvPicPr/>
          <p:nvPr/>
        </p:nvPicPr>
        <p:blipFill>
          <a:blip r:embed="rId1"/>
          <a:stretch/>
        </p:blipFill>
        <p:spPr>
          <a:xfrm>
            <a:off x="971640" y="765000"/>
            <a:ext cx="3139920" cy="209556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22" descr="Описание: velocity(M=4_Re=2000_t=50)_"/>
          <p:cNvPicPr/>
          <p:nvPr/>
        </p:nvPicPr>
        <p:blipFill>
          <a:blip r:embed="rId2"/>
          <a:stretch/>
        </p:blipFill>
        <p:spPr>
          <a:xfrm>
            <a:off x="5219640" y="765000"/>
            <a:ext cx="3140280" cy="209556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3"/>
          <p:cNvSpPr/>
          <p:nvPr/>
        </p:nvSpPr>
        <p:spPr>
          <a:xfrm>
            <a:off x="0" y="10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2160" y="3138840"/>
            <a:ext cx="3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2946600" y="3141360"/>
            <a:ext cx="342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sity and longitudinal velocity a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042920" y="1844640"/>
            <a:ext cx="705816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Pironneau O. (1982): Method of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e main feature of several semi-Lagrangian approaches consists in approximation of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dvection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s one “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slant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(substantial or Lagrangian)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deriv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n the direction of vec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"/>
          <p:cNvGraphicFramePr/>
          <p:nvPr/>
        </p:nvGraphicFramePr>
        <p:xfrm>
          <a:off x="2771640" y="3500280"/>
          <a:ext cx="24480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500280"/>
                    <a:ext cx="24480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"/>
          <p:cNvGraphicFramePr/>
          <p:nvPr/>
        </p:nvGraphicFramePr>
        <p:xfrm>
          <a:off x="3851280" y="4653000"/>
          <a:ext cx="38736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653000"/>
                    <a:ext cx="3873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4303800" y="5373720"/>
          <a:ext cx="12996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03800" y="5373720"/>
                    <a:ext cx="12996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8"/>
          <p:cNvSpPr/>
          <p:nvPr/>
        </p:nvSpPr>
        <p:spPr>
          <a:xfrm>
            <a:off x="324000" y="18900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 Unicode MS"/>
              </a:rPr>
              <a:t>Supersonic flow around wedge for nonzero angle of attac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62" name="Рисунок 41" descr="Описание: density(M=4_Re=2000_t=6)"/>
          <p:cNvPicPr/>
          <p:nvPr/>
        </p:nvPicPr>
        <p:blipFill>
          <a:blip r:embed="rId1"/>
          <a:stretch/>
        </p:blipFill>
        <p:spPr>
          <a:xfrm>
            <a:off x="1258920" y="1341360"/>
            <a:ext cx="2703600" cy="254808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42" descr="Описание: velocity(M=4_Re=2000_t=6)"/>
          <p:cNvPicPr/>
          <p:nvPr/>
        </p:nvPicPr>
        <p:blipFill>
          <a:blip r:embed="rId2"/>
          <a:stretch/>
        </p:blipFill>
        <p:spPr>
          <a:xfrm>
            <a:off x="6012000" y="1341360"/>
            <a:ext cx="2703240" cy="254808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43" descr="Описание: density(M=4_Re=2000_t=8)"/>
          <p:cNvPicPr/>
          <p:nvPr/>
        </p:nvPicPr>
        <p:blipFill>
          <a:blip r:embed="rId3"/>
          <a:stretch/>
        </p:blipFill>
        <p:spPr>
          <a:xfrm>
            <a:off x="1258920" y="3933720"/>
            <a:ext cx="2703600" cy="254808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44" descr="Описание: velocity(M=4_Re=2000_t=8)"/>
          <p:cNvPicPr/>
          <p:nvPr/>
        </p:nvPicPr>
        <p:blipFill>
          <a:blip r:embed="rId4"/>
          <a:stretch/>
        </p:blipFill>
        <p:spPr>
          <a:xfrm>
            <a:off x="5940360" y="3933720"/>
            <a:ext cx="2703600" cy="25480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1"/>
          <p:cNvSpPr/>
          <p:nvPr/>
        </p:nvSpPr>
        <p:spPr>
          <a:xfrm>
            <a:off x="716040" y="-314100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716400" y="29160"/>
            <a:ext cx="3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716400" y="6552000"/>
            <a:ext cx="3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9" name="Прямоугольник 9"/>
          <p:cNvSpPr/>
          <p:nvPr/>
        </p:nvSpPr>
        <p:spPr>
          <a:xfrm>
            <a:off x="1258920" y="662040"/>
            <a:ext cx="640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4,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ngle of the wedge </a:t>
            </a:r>
            <a:r>
              <a:rPr b="0" i="1" lang="el-GR" sz="1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53.1º,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ngle of attack </a:t>
            </a:r>
            <a:r>
              <a:rPr b="0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0" name="Rectangle 20"/>
          <p:cNvSpPr/>
          <p:nvPr/>
        </p:nvSpPr>
        <p:spPr>
          <a:xfrm>
            <a:off x="3067560" y="3789720"/>
            <a:ext cx="33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sity and longitudinal velocity a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1" name="Rectangle 20"/>
          <p:cNvSpPr/>
          <p:nvPr/>
        </p:nvSpPr>
        <p:spPr>
          <a:xfrm>
            <a:off x="3139560" y="6453720"/>
            <a:ext cx="33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sity and longitudinal velocity a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Рисунок 45" descr="Описание: density(M=4_Re=2000_t=10)"/>
          <p:cNvPicPr/>
          <p:nvPr/>
        </p:nvPicPr>
        <p:blipFill>
          <a:blip r:embed="rId1"/>
          <a:stretch/>
        </p:blipFill>
        <p:spPr>
          <a:xfrm>
            <a:off x="1332000" y="189000"/>
            <a:ext cx="3039840" cy="286524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46" descr="Описание: velocity(M=4_Re=2000_t=10)"/>
          <p:cNvPicPr/>
          <p:nvPr/>
        </p:nvPicPr>
        <p:blipFill>
          <a:blip r:embed="rId2"/>
          <a:stretch/>
        </p:blipFill>
        <p:spPr>
          <a:xfrm>
            <a:off x="5580000" y="115920"/>
            <a:ext cx="3040200" cy="286524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49" descr="Описание: density(M=4_Re=2000_t=20)"/>
          <p:cNvPicPr/>
          <p:nvPr/>
        </p:nvPicPr>
        <p:blipFill>
          <a:blip r:embed="rId3"/>
          <a:stretch/>
        </p:blipFill>
        <p:spPr>
          <a:xfrm>
            <a:off x="1332000" y="3284640"/>
            <a:ext cx="3039840" cy="286524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50" descr="Описание: velocity(M=4_Re=2000_t=20)"/>
          <p:cNvPicPr/>
          <p:nvPr/>
        </p:nvPicPr>
        <p:blipFill>
          <a:blip r:embed="rId4"/>
          <a:stretch/>
        </p:blipFill>
        <p:spPr>
          <a:xfrm>
            <a:off x="5508720" y="3213000"/>
            <a:ext cx="3039840" cy="28656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8"/>
          <p:cNvSpPr/>
          <p:nvPr/>
        </p:nvSpPr>
        <p:spPr>
          <a:xfrm>
            <a:off x="0" y="-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2160" y="-123480"/>
            <a:ext cx="3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2160" y="6399720"/>
            <a:ext cx="3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9" name="Rectangle 20"/>
          <p:cNvSpPr/>
          <p:nvPr/>
        </p:nvSpPr>
        <p:spPr>
          <a:xfrm>
            <a:off x="2946600" y="3069000"/>
            <a:ext cx="342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sity and longitudinal velocity a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0" name="Rectangle 20"/>
          <p:cNvSpPr/>
          <p:nvPr/>
        </p:nvSpPr>
        <p:spPr>
          <a:xfrm>
            <a:off x="3090240" y="6237720"/>
            <a:ext cx="342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sity and longitudinal velocity a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velocity_M=4_Re=2000_betta=53,1.avi" descr=""/>
          <p:cNvPicPr/>
          <p:nvPr/>
        </p:nvPicPr>
        <p:blipFill>
          <a:blip r:embed="rId1"/>
          <a:stretch/>
        </p:blipFill>
        <p:spPr>
          <a:xfrm>
            <a:off x="395280" y="3451320"/>
            <a:ext cx="4786200" cy="31906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382" name="Прямоугольник 4"/>
          <p:cNvSpPr/>
          <p:nvPr/>
        </p:nvSpPr>
        <p:spPr>
          <a:xfrm>
            <a:off x="6054120" y="299736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4,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3" name="Прямоугольник 5"/>
          <p:cNvSpPr/>
          <p:nvPr/>
        </p:nvSpPr>
        <p:spPr>
          <a:xfrm>
            <a:off x="5276520" y="364500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ngle of the wedge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Arial Unicode MS"/>
              </a:rPr>
              <a:t>β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≈ 53.1°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4" name="TextBox 5"/>
          <p:cNvSpPr/>
          <p:nvPr/>
        </p:nvSpPr>
        <p:spPr>
          <a:xfrm>
            <a:off x="6642720" y="148428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 Unicode MS"/>
              </a:rPr>
              <a:t>Dens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5646960" y="4941720"/>
            <a:ext cx="26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 Unicode MS"/>
              </a:rPr>
              <a:t>Longitudinal veloc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86" name="density_M=4_Re=2000_betta=53,1_.avi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7862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129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ation of full energy (kinetic + in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ion of advection derivatives in the frame of finite element method without artificial tr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sence of Courant-Friedrichs-Lewy restriction on the relation between temporal and spatial mesh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retization matrices at each time level have better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tter smooth properties and the better approximation along trajecto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907640" y="2349360"/>
            <a:ext cx="706788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Thanks for your atten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ointwise approach in convection-diffusio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1"/>
          <p:cNvGraphicFramePr/>
          <p:nvPr/>
        </p:nvGraphicFramePr>
        <p:xfrm>
          <a:off x="2556000" y="1628640"/>
          <a:ext cx="3168360" cy="7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628640"/>
                    <a:ext cx="316836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3"/>
          <p:cNvGraphicFramePr/>
          <p:nvPr/>
        </p:nvGraphicFramePr>
        <p:xfrm>
          <a:off x="3203640" y="2924280"/>
          <a:ext cx="1584360" cy="79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2924280"/>
                    <a:ext cx="158436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6"/>
          <p:cNvGraphicFramePr/>
          <p:nvPr/>
        </p:nvGraphicFramePr>
        <p:xfrm>
          <a:off x="1684440" y="4149720"/>
          <a:ext cx="4624200" cy="76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4440" y="4149720"/>
                    <a:ext cx="462420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7"/>
          <p:cNvSpPr/>
          <p:nvPr/>
        </p:nvSpPr>
        <p:spPr>
          <a:xfrm>
            <a:off x="900000" y="530064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The equation with this right-hand side is self-adjoint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ion of slant deriv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6"/>
          <p:cNvGraphicFramePr/>
          <p:nvPr/>
        </p:nvGraphicFramePr>
        <p:xfrm>
          <a:off x="1258920" y="2060640"/>
          <a:ext cx="547380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060640"/>
                    <a:ext cx="54738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7"/>
          <p:cNvSpPr/>
          <p:nvPr/>
        </p:nvSpPr>
        <p:spPr>
          <a:xfrm>
            <a:off x="250920" y="1125360"/>
            <a:ext cx="784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Apply finite element method at the time level     and use appropriate quadrature formulas for the lumping effect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763640" y="3645000"/>
          <a:ext cx="4937040" cy="76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645000"/>
                    <a:ext cx="493704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7"/>
          <p:cNvSpPr/>
          <p:nvPr/>
        </p:nvSpPr>
        <p:spPr>
          <a:xfrm>
            <a:off x="611280" y="2781360"/>
            <a:ext cx="756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Two ways for approximation of slant derivativ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1. Approximation along vector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6084720" y="2708280"/>
          <a:ext cx="863640" cy="46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4720" y="2708280"/>
                    <a:ext cx="8636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4"/>
          <p:cNvGraphicFramePr/>
          <p:nvPr/>
        </p:nvGraphicFramePr>
        <p:xfrm>
          <a:off x="4211640" y="3068640"/>
          <a:ext cx="155520" cy="423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1640" y="3068640"/>
                    <a:ext cx="1555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7"/>
          <p:cNvSpPr/>
          <p:nvPr/>
        </p:nvSpPr>
        <p:spPr>
          <a:xfrm>
            <a:off x="755640" y="4581360"/>
            <a:ext cx="755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2. Approximation along characteristics (trajectory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87" name="Object 5"/>
          <p:cNvGraphicFramePr/>
          <p:nvPr/>
        </p:nvGraphicFramePr>
        <p:xfrm>
          <a:off x="1692360" y="5084640"/>
          <a:ext cx="3483000" cy="152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92360" y="5084640"/>
                    <a:ext cx="348300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8"/>
          <p:cNvGraphicFramePr/>
          <p:nvPr/>
        </p:nvGraphicFramePr>
        <p:xfrm>
          <a:off x="5724360" y="1125360"/>
          <a:ext cx="235080" cy="37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24360" y="1125360"/>
                    <a:ext cx="23508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0000"/>
                </a:solidFill>
                <a:latin typeface="Arial"/>
              </a:rPr>
              <a:t>Approximation of substantial derivative along traj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5" descr="рисунок 1.jpg"/>
          <p:cNvPicPr/>
          <p:nvPr/>
        </p:nvPicPr>
        <p:blipFill>
          <a:blip r:embed="rId1"/>
          <a:stretch/>
        </p:blipFill>
        <p:spPr>
          <a:xfrm>
            <a:off x="2303640" y="1700280"/>
            <a:ext cx="4587840" cy="31338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468360" y="5300640"/>
            <a:ext cx="777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Solution smoothness usually is better along trajector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Asymptotically both way have the same first order of approxima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element formulation at time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6"/>
          <p:cNvGraphicFramePr/>
          <p:nvPr/>
        </p:nvGraphicFramePr>
        <p:xfrm>
          <a:off x="755640" y="2852640"/>
          <a:ext cx="704232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70423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3"/>
          <p:cNvGraphicFramePr/>
          <p:nvPr/>
        </p:nvGraphicFramePr>
        <p:xfrm>
          <a:off x="468360" y="5300640"/>
          <a:ext cx="8142120" cy="11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5300640"/>
                    <a:ext cx="81421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4"/>
          <p:cNvGraphicFramePr/>
          <p:nvPr/>
        </p:nvGraphicFramePr>
        <p:xfrm>
          <a:off x="3564000" y="3645000"/>
          <a:ext cx="1425600" cy="76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3645000"/>
                    <a:ext cx="142560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5"/>
          <p:cNvGraphicFramePr/>
          <p:nvPr/>
        </p:nvGraphicFramePr>
        <p:xfrm>
          <a:off x="7236000" y="608040"/>
          <a:ext cx="288720" cy="455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6000" y="608040"/>
                    <a:ext cx="2887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7"/>
          <p:cNvSpPr/>
          <p:nvPr/>
        </p:nvSpPr>
        <p:spPr>
          <a:xfrm>
            <a:off x="900000" y="191628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Intermediate finite element formula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826920" y="4653000"/>
            <a:ext cx="712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Final formula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terpolation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1"/>
          <p:cNvGraphicFramePr/>
          <p:nvPr/>
        </p:nvGraphicFramePr>
        <p:xfrm>
          <a:off x="4344840" y="2349360"/>
          <a:ext cx="360360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349360"/>
                    <a:ext cx="36036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"/>
          <p:cNvGraphicFramePr/>
          <p:nvPr/>
        </p:nvGraphicFramePr>
        <p:xfrm>
          <a:off x="3203640" y="3645000"/>
          <a:ext cx="517680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645000"/>
                    <a:ext cx="51768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Рисунок 7" descr="рисунок 2.jpg"/>
          <p:cNvPicPr/>
          <p:nvPr/>
        </p:nvPicPr>
        <p:blipFill>
          <a:blip r:embed="rId5"/>
          <a:stretch/>
        </p:blipFill>
        <p:spPr>
          <a:xfrm>
            <a:off x="539640" y="865080"/>
            <a:ext cx="2667240" cy="253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7"/>
          <p:cNvGraphicFramePr/>
          <p:nvPr/>
        </p:nvGraphicFramePr>
        <p:xfrm>
          <a:off x="1332000" y="3213000"/>
          <a:ext cx="258840" cy="37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2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2000" y="3213000"/>
                    <a:ext cx="2588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8"/>
          <p:cNvGraphicFramePr/>
          <p:nvPr/>
        </p:nvGraphicFramePr>
        <p:xfrm>
          <a:off x="3059280" y="2276640"/>
          <a:ext cx="318960" cy="417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59280" y="2276640"/>
                    <a:ext cx="31896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9"/>
          <p:cNvGraphicFramePr/>
          <p:nvPr/>
        </p:nvGraphicFramePr>
        <p:xfrm>
          <a:off x="1547640" y="1890720"/>
          <a:ext cx="576360" cy="331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47640" y="1890720"/>
                    <a:ext cx="57636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7"/>
          <p:cNvSpPr/>
          <p:nvPr/>
        </p:nvSpPr>
        <p:spPr>
          <a:xfrm>
            <a:off x="900000" y="530064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Stability in          norm: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8" name="Object 7"/>
          <p:cNvGraphicFramePr/>
          <p:nvPr/>
        </p:nvGraphicFramePr>
        <p:xfrm>
          <a:off x="2268360" y="5300640"/>
          <a:ext cx="549360" cy="360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68360" y="5300640"/>
                    <a:ext cx="549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6"/>
          <p:cNvGraphicFramePr/>
          <p:nvPr/>
        </p:nvGraphicFramePr>
        <p:xfrm>
          <a:off x="3851280" y="5300640"/>
          <a:ext cx="2666880" cy="538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851280" y="5300640"/>
                    <a:ext cx="2666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8"/>
          <p:cNvSpPr/>
          <p:nvPr/>
        </p:nvSpPr>
        <p:spPr>
          <a:xfrm>
            <a:off x="1102320" y="6093360"/>
            <a:ext cx="58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 Unicode MS"/>
              </a:rPr>
              <a:t>Chen H., Lin Q., Shaidurov V.V., Zhou J. (2011), …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terpolation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1"/>
          <p:cNvGraphicFramePr/>
          <p:nvPr/>
        </p:nvGraphicFramePr>
        <p:xfrm>
          <a:off x="4284720" y="1773360"/>
          <a:ext cx="3603600" cy="41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360360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3"/>
          <p:cNvGraphicFramePr/>
          <p:nvPr/>
        </p:nvGraphicFramePr>
        <p:xfrm>
          <a:off x="684360" y="5013360"/>
          <a:ext cx="696888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5013360"/>
                    <a:ext cx="696888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Рисунок 7" descr="рисунок 2.jpg"/>
          <p:cNvPicPr/>
          <p:nvPr/>
        </p:nvPicPr>
        <p:blipFill>
          <a:blip r:embed="rId5"/>
          <a:stretch/>
        </p:blipFill>
        <p:spPr>
          <a:xfrm>
            <a:off x="539640" y="865080"/>
            <a:ext cx="2667240" cy="253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Object 7"/>
          <p:cNvGraphicFramePr/>
          <p:nvPr/>
        </p:nvGraphicFramePr>
        <p:xfrm>
          <a:off x="1332000" y="3213000"/>
          <a:ext cx="258840" cy="37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2000" y="3213000"/>
                    <a:ext cx="2588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8"/>
          <p:cNvGraphicFramePr/>
          <p:nvPr/>
        </p:nvGraphicFramePr>
        <p:xfrm>
          <a:off x="3059280" y="2276640"/>
          <a:ext cx="318960" cy="417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2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59280" y="2276640"/>
                    <a:ext cx="31896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9"/>
          <p:cNvGraphicFramePr/>
          <p:nvPr/>
        </p:nvGraphicFramePr>
        <p:xfrm>
          <a:off x="1547640" y="1890720"/>
          <a:ext cx="576360" cy="331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4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47640" y="1890720"/>
                    <a:ext cx="57636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7"/>
          <p:cNvSpPr/>
          <p:nvPr/>
        </p:nvSpPr>
        <p:spPr>
          <a:xfrm>
            <a:off x="250920" y="3860640"/>
            <a:ext cx="8497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Stability in         norm and conservation law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c0000"/>
                </a:solidFill>
                <a:latin typeface="Arial"/>
              </a:rPr>
              <a:t>impact of four neighboring points into the weight of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36" name="Object 9"/>
          <p:cNvGraphicFramePr/>
          <p:nvPr/>
        </p:nvGraphicFramePr>
        <p:xfrm>
          <a:off x="1908000" y="3933720"/>
          <a:ext cx="492480" cy="360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7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08000" y="3933720"/>
                    <a:ext cx="4924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2"/>
          <p:cNvGraphicFramePr/>
          <p:nvPr/>
        </p:nvGraphicFramePr>
        <p:xfrm>
          <a:off x="6516720" y="4221000"/>
          <a:ext cx="974520" cy="419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9" name="Object 1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516720" y="4221000"/>
                    <a:ext cx="97452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02:07:00Z</dcterms:created>
  <dc:creator>Administrator</dc:creator>
  <dc:description/>
  <dc:language>en-US</dc:language>
  <cp:lastModifiedBy>Владимир</cp:lastModifiedBy>
  <dcterms:modified xsi:type="dcterms:W3CDTF">2015-06-09T07:20:20Z</dcterms:modified>
  <cp:revision>416</cp:revision>
  <dc:subject/>
  <dc:title>Слайд 1</dc:title>
</cp:coreProperties>
</file>